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F7D-21B1-4A46-A9AD-F77601F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F76-1AC9-49F8-81B6-B0679C6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90EC-DC02-41A3-BEB1-32759650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F4CC-00E2-4FD1-8C7C-638985E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E97AE-F646-41ED-A0BA-28EF8E85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A1032-8E52-42E5-BAE3-9852341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F96D2-A7CB-4F0F-AD35-181A147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8C451-330D-4F89-8B27-59289D4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63F51-1D7D-4E24-87F9-713AE519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FAE37-7721-4119-AA6F-2D6683F0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88B2D-4332-4867-B211-9AEC2712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BFC0A-1477-4955-8DDD-D10D7771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CD4-DC5A-47B8-A064-196C55F2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A1F83-F978-494F-832B-D8FBF608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44774-C2A1-4C0A-9094-777A47D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8533D-C497-4785-AF43-B7A52A26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A891-A9B0-4003-9845-26B9B6F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C5F9D-7238-4E91-BEF9-378E72D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FD143-CEBD-4B13-B481-A80824C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A745F-F4A0-4658-8DBA-76CFBB9A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67CC9-14C7-4ED5-B0D4-A2E9CDA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40D28-DF74-4FB4-BCA5-BF4BEBCC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7F534-EC94-4148-9DF3-0FD233D0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47C-6075-44E2-BD85-A44AB6A0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0A91D-68B7-4F4A-9040-0748D0F1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F5663-6DEB-44B1-A810-69EF5087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D87C-FDFD-45D0-ACD6-9D1E004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CD5C1-22AC-4E8C-B95E-F445D42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71DD-33DB-4230-9406-F23C391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64D07-8AD7-467C-87BF-02C8B76A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BEBD-E11E-4D73-B619-057518D8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256DF-AE6C-42D7-B317-61412CC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4F1F7-4FAF-410C-A2FD-378C5953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AF6B-108B-41C2-9459-EDA22C7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826-3878-4EA4-BC95-C3ABBAA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2E8B5-4715-40B9-A18D-31D53FFF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CAA8-57E7-4D78-A82D-9D8EF3AE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2FDA4-B662-4BE1-9A2B-4CDA45B6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12D9D-D2B2-4BE3-9660-8F9D8C4F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06DCE-7D28-4970-AB69-B527A03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221D6-20AB-4E4D-A9DF-6F530109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45927-0DB8-4970-A67C-2D23E6B6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6AB73-CDAE-43E5-AE15-2FA2DD2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C0C2D-18EC-478C-877C-8DFF780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E94AB-8F90-49FE-A670-8991009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2B6-B4AA-446A-91FA-B3BE8A74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55053-7058-476D-B609-DD11736C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ECDF6-0792-4A16-9656-2956A17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BB443-F223-4462-932C-7E09953A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B8B6A-F6B9-4C34-8350-ED803CF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DC658-77C4-41D8-9D67-892C6060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52C4-5108-46D9-AD04-C33AAF7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2A3-C2C1-44F0-BD8E-A1A1313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F74-A9EA-4F62-870D-342145AA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8919-192F-4A3B-B67C-35F620CA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D797-E24E-4420-B850-0AD25F3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240-56A6-4CEF-B291-AE73107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4AB7-8306-4F91-8CC2-FD3A66C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2B2-8B1B-4E3C-8BD7-6D69879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EAA-B229-4D4A-A725-15447AF3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681-6671-40E7-8BBA-C268693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2FB-9981-4476-8774-43FEE8D8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B67D-3DCD-4C6B-9C5B-A9BE52F1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1627-A936-44EE-B5E4-2D7C2A9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DCD8-0ED5-41B1-B21B-D2C68CE9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6F6A-6239-4924-B35B-680E544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6022-A898-4B79-B08D-3A6C47E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E1D-23F3-49F7-A5EC-E3851AD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8DEC-94BF-4CAD-9DFF-BCACA6D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A34E-70D4-4BE9-9A76-3980749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01C8-6702-45E9-969B-F4EFC66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9EEB-E279-4F41-9E50-6292CF7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264F-1918-4461-856C-AE9C84A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58EA-2CEF-473E-A730-7A76F54B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4364-74A3-42F1-960F-FF693E1C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713E-A7F0-4387-996B-8CC9AFD2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9396-190E-490D-A2C8-E0A8F486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8FC6-4517-467A-802F-881E748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B86-2D51-44CF-9AE8-D008EFA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3D1E-7C3A-437E-B932-C2C16CB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686A-C9EA-405D-9E7C-B33A40C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6A1A-DE7E-42F9-8E57-C9B3300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1881-8382-4DAA-A8FD-8AF11B5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9B23-AEAC-49D5-98DE-DABF399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8402-906D-472A-ABA8-2BEC527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339B-5A2A-4878-A74E-5F93F5C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DB04-9444-4546-8A08-3EDC7B9A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E61E-33DF-4D31-89F9-374087C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E46D-EAA7-462D-9B77-DA0F9E92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95F-0652-49C8-9B00-4978139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44D9-065C-4C00-ABA1-B6647ED7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592B-3369-49E3-80FE-A7853E55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4137-3F87-4EBD-843A-75514718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2352-DA74-4E4A-81A8-43305FDF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2D3A-C72D-4567-ADFD-5728B4D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EC94-1ED6-43FA-9524-F450174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9EC7-F345-4310-9997-CEF9B62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F151-5248-4DC2-BCA8-732AFD0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433F-30F2-4635-AA58-C8200F7A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EAB7-AF15-44FE-869F-782D83DE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656-9875-4A6C-A5A8-CB091B51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30ED-F9C9-4084-854D-3401B3AB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5A32-06C3-47AC-82C5-4190967D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BB5E-AD4E-4539-A4B3-03106C3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FCE7-47CD-448D-99E0-5EAE923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83834-C387-4443-BD46-BB0E2109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C70B-C237-42AD-9548-9152CC6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88A2-451C-4076-80E6-D48CDBB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C736-8D69-421E-84A8-5568CC8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3E03-3FF2-4744-B0E1-1867DB5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3164-4A40-46AB-980C-4E9DF8E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1C6-26CB-4D1A-A7ED-B7E2DA34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E5C0A-9FBE-4C91-B2A0-033EE55A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2A2A-8106-47A4-9C19-FC26A34F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CB279-3DD4-4C7C-B28C-6B32D230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2B3DF-9C1B-4FDD-A0BB-1854941C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EF42-1054-4461-B0FB-09C1DEF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FAE6-D719-4AAA-A7E0-C9F87B7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8879-4A27-42B1-9FBB-75EEB0A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B0A5-65B8-4BE0-829D-B9EF0A9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CEECB-130C-442E-8CF3-895281E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BAED-878B-4E5E-91B2-61CC959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F4B-FA38-4A2C-BC31-1524FE6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8AF6-8FC7-45B5-B0D8-DD4A05C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38C6-40EF-4737-8069-A6D3F05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CF3D-9DF5-4E95-A139-11DD90F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2EA2-37A9-4163-945B-2EAE928E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F854-4668-4F2A-8F12-03DF91E6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5024-0DD3-4E25-808D-210C9EAC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A7B16-19BD-4F91-8BB4-D829CCC4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E20F4-2736-4CD0-B6C6-E2083E0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A2DD-0D49-40AD-A8E4-168D4FC6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E1FF-1197-4474-8A0E-4177806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2D2-7FED-4A15-B001-53459A1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0067C-6497-4A90-8DE6-FACF6D5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DB1E-2F18-4432-82AE-20CA487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37AC-6D85-4014-8208-424245E0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6816C-1750-4DC6-B4E7-3BCEE73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0C5A-126D-4661-81CE-57D318A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6724-8CD1-44B1-8C0F-8A20AD1D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F8ACA-CDC6-49A1-8549-9DC7B2C9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B7ED3-62D8-44B8-85A8-DBCF8B1A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1912A-40DC-4AAA-99B6-89444909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CC619-9352-4F4F-9CAA-8BA6B42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33E9-22EA-4549-A32D-486A9C9B57E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90AF-B2C3-48A2-89BE-D91B2D2AD93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247-7430-4DA0-986A-ADB0770629F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CCA-E039-4853-B103-40C406381E5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0E0-B405-4ABA-9193-92E4194D576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7F7-629B-4EC2-B27C-358968DE075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823-3837-4714-BE03-8190C576003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87DC-6C30-4086-A3E7-08D44AC69BD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1CD-82D4-48F4-8469-B5E1715778F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713B-4388-4B58-A741-AEBFB702D20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315-3EC3-4072-A467-DF4DE02438F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D20-80A8-4A3D-AA1F-48D63C05CF2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F:\рису\1.jpg"/>
          <p:cNvPicPr/>
          <p:nvPr/>
        </p:nvPicPr>
        <p:blipFill>
          <a:blip r:embed="rId1"/>
          <a:stretch/>
        </p:blipFill>
        <p:spPr>
          <a:xfrm>
            <a:off x="2643120" y="2357280"/>
            <a:ext cx="3643560" cy="4500720"/>
          </a:xfrm>
          <a:prstGeom prst="rect">
            <a:avLst/>
          </a:prstGeom>
          <a:ln w="0">
            <a:noFill/>
          </a:ln>
        </p:spPr>
      </p:pic>
      <p:pic>
        <p:nvPicPr>
          <p:cNvPr id="502" name="TextBox 3" descr=""/>
          <p:cNvPicPr/>
          <p:nvPr/>
        </p:nvPicPr>
        <p:blipFill>
          <a:blip r:embed="rId2"/>
          <a:stretch/>
        </p:blipFill>
        <p:spPr>
          <a:xfrm>
            <a:off x="-171360" y="749160"/>
            <a:ext cx="93945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hema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74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5712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епродуктивный вопрос начинается со слов: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Кто? Что? Как? Где? Куд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дуктивные вопросы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специальные)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можно ли считать (что – то) верным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какие выводы можно сделать из…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каковы мотивы поступков человека (группы)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вопрос начинается с формулировки тези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дуктивные вопросы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разделительны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если  известно, что …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если …, то почему …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7" name="TextBox 3" descr=""/>
          <p:cNvPicPr/>
          <p:nvPr/>
        </p:nvPicPr>
        <p:blipFill>
          <a:blip r:embed="rId1"/>
          <a:stretch/>
        </p:blipFill>
        <p:spPr>
          <a:xfrm>
            <a:off x="-133200" y="-42840"/>
            <a:ext cx="9459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Выноска со стрелкой вниз 6"/>
          <p:cNvSpPr/>
          <p:nvPr/>
        </p:nvSpPr>
        <p:spPr>
          <a:xfrm>
            <a:off x="1928880" y="500040"/>
            <a:ext cx="5072040" cy="25718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204"/>
                </a:solidFill>
                <a:latin typeface="Arial Black"/>
              </a:rPr>
              <a:t>Зарожд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204"/>
                </a:solidFill>
                <a:latin typeface="Arial Black"/>
              </a:rPr>
              <a:t>в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Блок-схема: альтернативный процесс 9"/>
          <p:cNvSpPr/>
          <p:nvPr/>
        </p:nvSpPr>
        <p:spPr>
          <a:xfrm>
            <a:off x="285840" y="2928960"/>
            <a:ext cx="3643200" cy="861840"/>
          </a:xfrm>
          <a:prstGeom prst="flowChartAlternateProcess">
            <a:avLst/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Arial Black"/>
              </a:rPr>
              <a:t>любопы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Блок-схема: альтернативный процесс 10"/>
          <p:cNvSpPr/>
          <p:nvPr/>
        </p:nvSpPr>
        <p:spPr>
          <a:xfrm>
            <a:off x="5143680" y="2928960"/>
            <a:ext cx="3643200" cy="861840"/>
          </a:xfrm>
          <a:prstGeom prst="flowChartAlternateProcess">
            <a:avLst/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204"/>
                </a:solidFill>
                <a:latin typeface="Arial Black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Блок-схема: альтернативный процесс 11"/>
          <p:cNvSpPr/>
          <p:nvPr/>
        </p:nvSpPr>
        <p:spPr>
          <a:xfrm>
            <a:off x="357120" y="5500800"/>
            <a:ext cx="8643960" cy="861840"/>
          </a:xfrm>
          <a:prstGeom prst="flowChartAlternateProcess">
            <a:avLst/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Arial Black"/>
              </a:rPr>
              <a:t>Поиск противореч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http://anime.toppik.ru/_ph/49/1/275027777.jpg"/>
          <p:cNvPicPr/>
          <p:nvPr/>
        </p:nvPicPr>
        <p:blipFill>
          <a:blip r:embed="rId1"/>
          <a:stretch/>
        </p:blipFill>
        <p:spPr>
          <a:xfrm>
            <a:off x="4071960" y="3429000"/>
            <a:ext cx="9129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Блок-схема: альтернативный процесс 1"/>
          <p:cNvSpPr/>
          <p:nvPr/>
        </p:nvSpPr>
        <p:spPr>
          <a:xfrm>
            <a:off x="214200" y="285840"/>
            <a:ext cx="8643960" cy="861840"/>
          </a:xfrm>
          <a:prstGeom prst="flowChartAlternateProcess">
            <a:avLst/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Arial Black"/>
              </a:rPr>
              <a:t>Поиск противореч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Блок-схема: альтернативный процесс 2"/>
          <p:cNvSpPr/>
          <p:nvPr/>
        </p:nvSpPr>
        <p:spPr>
          <a:xfrm>
            <a:off x="285840" y="1285920"/>
            <a:ext cx="8572320" cy="5572080"/>
          </a:xfrm>
          <a:prstGeom prst="flowChartAlternateProcess">
            <a:avLst/>
          </a:prstGeom>
          <a:solidFill>
            <a:srgbClr val="fee8d8"/>
          </a:solidFill>
          <a:ln w="7632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ить в тексте:  непоня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труднообъяснимое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ивительное, неубедительные аргументы, неоднозначные объяснения,    недостаточные с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сформулировать э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виде в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F:\рису\vopros2.png"/>
          <p:cNvPicPr/>
          <p:nvPr/>
        </p:nvPicPr>
        <p:blipFill>
          <a:blip r:embed="rId1"/>
          <a:stretch/>
        </p:blipFill>
        <p:spPr>
          <a:xfrm>
            <a:off x="1403280" y="2708280"/>
            <a:ext cx="4444920" cy="4444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npid_13885"/>
          <p:cNvPicPr/>
          <p:nvPr/>
        </p:nvPicPr>
        <p:blipFill>
          <a:blip r:embed="rId2"/>
          <a:stretch/>
        </p:blipFill>
        <p:spPr>
          <a:xfrm>
            <a:off x="468360" y="189000"/>
            <a:ext cx="2468520" cy="308592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1" descr="http://lib.1september.ru/2004/18/11_1.jpg"/>
          <p:cNvPicPr/>
          <p:nvPr/>
        </p:nvPicPr>
        <p:blipFill>
          <a:blip r:embed="rId3"/>
          <a:srcRect l="12092" t="5326" r="11193" b="0"/>
          <a:stretch/>
        </p:blipFill>
        <p:spPr>
          <a:xfrm rot="2017200">
            <a:off x="2916000" y="260280"/>
            <a:ext cx="5607000" cy="51897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4428360" y="5351400"/>
            <a:ext cx="46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183240" y="3312360"/>
            <a:ext cx="296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ерикан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3d68"/>
                </a:solidFill>
                <a:latin typeface="Arial"/>
              </a:rPr>
              <a:t>Бенджамин Бл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13—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2556000" y="404640"/>
            <a:ext cx="658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1. Зн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просы, требующие запомнить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2. Поним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вопросы, которые позволяют ученикам понять смысл переданной информации и употребить ее не так, как в тексте: сравнить объекты, проиллюстрировать историю, выявить и разъяснить основную иде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pyramid"/>
          <p:cNvPicPr/>
          <p:nvPr/>
        </p:nvPicPr>
        <p:blipFill>
          <a:blip r:embed="rId1"/>
          <a:stretch/>
        </p:blipFill>
        <p:spPr>
          <a:xfrm>
            <a:off x="179280" y="549360"/>
            <a:ext cx="224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556000" y="765000"/>
            <a:ext cx="63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3. Приложение (применение)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просы на осо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ые помогут уче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ить полученное знание в аналогичн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этого им необходи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ть выбрать нужные факты, сообщить их или решить пробл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pyramid"/>
          <p:cNvPicPr/>
          <p:nvPr/>
        </p:nvPicPr>
        <p:blipFill>
          <a:blip r:embed="rId1"/>
          <a:stretch/>
        </p:blipFill>
        <p:spPr>
          <a:xfrm>
            <a:off x="250920" y="1052640"/>
            <a:ext cx="2246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1"/>
          <p:cNvSpPr/>
          <p:nvPr/>
        </p:nvSpPr>
        <p:spPr>
          <a:xfrm>
            <a:off x="2286000" y="549360"/>
            <a:ext cx="685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4. Анализ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ченики должны разбить информацию на малые части, чтобы стала понятной её струк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ая операция позволит им увидеть разные точки зрения и обсудить их, затем ответить на вопросы «</a:t>
            </a: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поче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зач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, т.е. определить мотивацию, причины, сравнить события или сделать вывод из полученных фа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pyramid"/>
          <p:cNvPicPr/>
          <p:nvPr/>
        </p:nvPicPr>
        <p:blipFill>
          <a:blip r:embed="rId1"/>
          <a:stretch/>
        </p:blipFill>
        <p:spPr>
          <a:xfrm>
            <a:off x="179280" y="549360"/>
            <a:ext cx="224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755640" y="3213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3d68"/>
                </a:solidFill>
                <a:latin typeface="Trebuchet MS"/>
              </a:rPr>
              <a:t>5. </a:t>
            </a:r>
            <a:r>
              <a:rPr b="1" lang="ru-RU" sz="3600" spc="-1" strike="noStrike">
                <a:solidFill>
                  <a:srgbClr val="b83d68"/>
                </a:solidFill>
                <a:latin typeface="Arial"/>
              </a:rPr>
              <a:t>Синтез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еникам необходимо соединить малые части так, чтобы создать что-то новое (решение проблемы) или</a:t>
            </a:r>
            <a:r>
              <a:rPr b="1" lang="ru-RU" sz="36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сказать развитие событ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pyramid"/>
          <p:cNvPicPr/>
          <p:nvPr/>
        </p:nvPicPr>
        <p:blipFill>
          <a:blip r:embed="rId1"/>
          <a:stretch/>
        </p:blipFill>
        <p:spPr>
          <a:xfrm>
            <a:off x="1258920" y="404640"/>
            <a:ext cx="224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1"/>
          <p:cNvSpPr/>
          <p:nvPr/>
        </p:nvSpPr>
        <p:spPr>
          <a:xfrm>
            <a:off x="2268360" y="333360"/>
            <a:ext cx="660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6. Оценк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и оценивают информацию на основании личного опыта или данного им критерия, т.е. они должны выразить мнение, рекомендовать решение, обсудить тему, защитить определенную точку</a:t>
            </a: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ения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обные вопросы начинаются с выражения ка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ы считаете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pyramid"/>
          <p:cNvPicPr/>
          <p:nvPr/>
        </p:nvPicPr>
        <p:blipFill>
          <a:blip r:embed="rId1"/>
          <a:stretch/>
        </p:blipFill>
        <p:spPr>
          <a:xfrm>
            <a:off x="0" y="549360"/>
            <a:ext cx="224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7:54:36Z</dcterms:created>
  <dc:creator>Zakovyrina Elena</dc:creator>
  <dc:description/>
  <dc:language>en-US</dc:language>
  <cp:lastModifiedBy>AVM-3</cp:lastModifiedBy>
  <dcterms:modified xsi:type="dcterms:W3CDTF">2013-04-02T04:44:08Z</dcterms:modified>
  <cp:revision>7</cp:revision>
  <dc:subject/>
  <dc:title>Слайд 1</dc:title>
</cp:coreProperties>
</file>