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1617-BACC-4672-B9C0-732833F8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1AAC-1C94-413F-91F6-17452676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B54D-419A-47AE-B4D2-9A1EFE33D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CE49-0148-430A-93D8-04C0199F6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1348-16D0-454F-A6E3-86061814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A73F-CA86-4A79-94F0-CB9586E5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B06C-1415-42E6-AA9F-5122720A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48C2-343C-4189-9404-176FA0CF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A0D3-EA1D-4F22-83F6-B1A983FA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FC80-3767-48CD-983E-974BE738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993E-B97A-4127-A7A4-D9DDBD5F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D98A-817C-40F9-BE77-FB543AE6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2"/>
          <p:cNvSpPr/>
          <p:nvPr/>
        </p:nvSpPr>
        <p:spPr>
          <a:xfrm>
            <a:off x="228600" y="228600"/>
            <a:ext cx="8686800" cy="6477120"/>
          </a:xfrm>
          <a:prstGeom prst="roundRect">
            <a:avLst>
              <a:gd name="adj" fmla="val 8213"/>
            </a:avLst>
          </a:prstGeom>
          <a:blipFill rotWithShape="0">
            <a:blip r:embed="rId3">
              <a:alphaModFix amt="4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328F-6B2C-4348-9CD6-4A86418AF1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3" descr="223"/>
          <p:cNvPicPr/>
          <p:nvPr/>
        </p:nvPicPr>
        <p:blipFill>
          <a:blip r:embed="rId4"/>
          <a:stretch/>
        </p:blipFill>
        <p:spPr>
          <a:xfrm>
            <a:off x="152280" y="152280"/>
            <a:ext cx="1067040" cy="1019160"/>
          </a:xfrm>
          <a:prstGeom prst="rect">
            <a:avLst/>
          </a:prstGeom>
          <a:ln w="0">
            <a:noFill/>
          </a:ln>
          <a:effectLst>
            <a:outerShdw dist="140247" dir="309268" blurRad="0" rotWithShape="0">
              <a:srgbClr val="777777">
                <a:alpha val="50000"/>
              </a:srgbClr>
            </a:outerShdw>
          </a:effectLst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1"/>
          <p:cNvGrpSpPr/>
          <p:nvPr/>
        </p:nvGrpSpPr>
        <p:grpSpPr>
          <a:xfrm>
            <a:off x="228600" y="228600"/>
            <a:ext cx="8915400" cy="6527880"/>
            <a:chOff x="228600" y="228600"/>
            <a:chExt cx="8915400" cy="6527880"/>
          </a:xfrm>
        </p:grpSpPr>
        <p:sp>
          <p:nvSpPr>
            <p:cNvPr id="44" name="Freeform 7"/>
            <p:cNvSpPr/>
            <p:nvPr/>
          </p:nvSpPr>
          <p:spPr>
            <a:xfrm>
              <a:off x="228600" y="228600"/>
              <a:ext cx="8534520" cy="5537160"/>
            </a:xfrm>
            <a:prstGeom prst="pie">
              <a:avLst/>
            </a:prstGeom>
            <a:noFill/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457200" y="533520"/>
              <a:ext cx="8610480" cy="5537160"/>
            </a:xfrm>
            <a:prstGeom prst="pie">
              <a:avLst/>
            </a:prstGeom>
            <a:noFill/>
            <a:ln w="9360">
              <a:solidFill>
                <a:srgbClr val="9873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685800" y="1066680"/>
              <a:ext cx="8458200" cy="5308560"/>
            </a:xfrm>
            <a:prstGeom prst="pie">
              <a:avLst/>
            </a:prstGeom>
            <a:noFill/>
            <a:ln w="25560">
              <a:solidFill>
                <a:srgbClr val="9e9a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1066680" y="1676520"/>
              <a:ext cx="8001000" cy="5079960"/>
            </a:xfrm>
            <a:prstGeom prst="pie">
              <a:avLst/>
            </a:prstGeom>
            <a:noFill/>
            <a:ln w="25560">
              <a:solidFill>
                <a:srgbClr val="bcb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AutoShape 12"/>
          <p:cNvSpPr/>
          <p:nvPr/>
        </p:nvSpPr>
        <p:spPr>
          <a:xfrm>
            <a:off x="533520" y="1295280"/>
            <a:ext cx="8076960" cy="3353040"/>
          </a:xfrm>
          <a:prstGeom prst="roundRect">
            <a:avLst>
              <a:gd name="adj" fmla="val 9755"/>
            </a:avLst>
          </a:prstGeom>
          <a:solidFill>
            <a:srgbClr val="ffff99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2" descr="223"/>
          <p:cNvPicPr/>
          <p:nvPr/>
        </p:nvPicPr>
        <p:blipFill>
          <a:blip r:embed="rId3"/>
          <a:stretch/>
        </p:blipFill>
        <p:spPr>
          <a:xfrm>
            <a:off x="7086600" y="4800600"/>
            <a:ext cx="1371600" cy="1309680"/>
          </a:xfrm>
          <a:prstGeom prst="rect">
            <a:avLst/>
          </a:prstGeom>
          <a:ln w="0">
            <a:noFill/>
          </a:ln>
          <a:effectLst>
            <a:outerShdw dist="140247" dir="309268" blurRad="0" rotWithShape="0">
              <a:srgbClr val="777777">
                <a:alpha val="50000"/>
              </a:srgbClr>
            </a:outerShdw>
          </a:effectLst>
        </p:spPr>
      </p:pic>
      <p:pic>
        <p:nvPicPr>
          <p:cNvPr id="50" name="Picture 25" descr="43"/>
          <p:cNvPicPr/>
          <p:nvPr/>
        </p:nvPicPr>
        <p:blipFill>
          <a:blip r:embed="rId4"/>
          <a:stretch/>
        </p:blipFill>
        <p:spPr>
          <a:xfrm>
            <a:off x="3048120" y="3352680"/>
            <a:ext cx="2904840" cy="228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6840" y="8380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Основные приёмы и технологии в работе учителя курса ОРКСЭ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6 марта 2013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Теоретические и практические основы применяемых приёмов, форм, методов и средств обучения: Работа с текстом и иллюстрациями, учебные фильмы, диалог (Мальцева Е.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Мастеркласс – из опыта работы (Тимохова Н.Ю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Работа с родителями: как провести родительское собрание  (Мальцева Е.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219320" y="3886200"/>
            <a:ext cx="69339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уководитель ПДС Мальцева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2FC0-B56B-455C-8F51-3BAB8277ABE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140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Немного теории   </a:t>
            </a:r>
            <a:br>
              <a:rPr sz="3700"/>
            </a:b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300" spc="-1" strike="noStrike">
                <a:solidFill>
                  <a:srgbClr val="ff0000"/>
                </a:solidFill>
                <a:latin typeface="Arial"/>
              </a:rPr>
              <a:t>Из каких этапов состоит проблемно-диалогический урок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771640" y="306864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движ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с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835280" y="167652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зд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блемной ситу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чителем и формулиров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бной пробл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чен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304920" y="312408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уализа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ющихся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539640" y="458136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ис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я пробл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ткрытие нового 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539640" y="555948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6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блемы и 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мен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ового знания на практ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6095880" y="304812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ставл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шения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276360" y="3123720"/>
            <a:ext cx="5562360" cy="26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«Не составлять планов – значит запланировать свое поражение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(Бенджамин Франкл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523880" y="3049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 соотносится эпиграф с нашей работой на сегодняшнем занят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. Работа с текс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огают раскрыть для ученика пространство религиозной культур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никнуть в смысл символического язы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ытаться понять главную нравственную идею, заключенную в этих текст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Цели и задачи работы с тек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адекватное использование речевых средств и средств информационно-коммуникационных технологий для решения различных коммуникативных и познавательных задач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умение осуществлять информационный поиск для выполнения учебных задан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овладение навыками смыслового чтения текстов различных стилей и жанров, осознанного построения речевых высказываний в соответствии с задачами коммуника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готовность слушать собеседника и вести диалог; готовность признавать возможность существования различных точек зрения и права каждого иметь свою собственную; излагать свое мнение и аргументировать свою точку зрения и оценку событий; готовность конструктивно решать конфликты посредством интересов сторон и сотруднич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онимание (общее, полное, критическое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нахождение конкретной информац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интерпретация содержания, и д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76320" y="609480"/>
            <a:ext cx="9067680" cy="58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ды чтения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знакомительно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аправленное на извлечение основной информации или выделение основного содержания текст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зучающе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ение, имеющее целью извлечение полной и точной информации с последующей интерпретацией содержания текст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исковое/просмотрово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ение, направленное на нахождение конкретной информации, конкретного факт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304920" y="152280"/>
            <a:ext cx="8534160" cy="67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 рефлексивное чте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ие предвосхищать содержание предметного плана текста по заголовку и с опорой на предыдущий опы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ть основную мысль текста, прогнозировать последовательность изложения идей текс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поставлять разные точки зрения и разные источники информации по тем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ять смысловое свертывание выделенных фактов и мыслей; понимать назначения разных видов текст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поставлять иллюстративный материал с информацией текста; переносить информацию текста в виде кратких запис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вить перед собой цель чтения, направляя внимание на полезную в данный момент информ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ировать изменения своего эмоционального состояния в процессе чтения, получения и переработки полученной информации и ее осмыслени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228600" y="457200"/>
            <a:ext cx="8686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ы учебной коммуник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онологическ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выступление, рассказ, ответ, пересказ, вопрос, сообщение, доклад, аргументация, критика, доказательство, опровержение, выражение собственной точки зрения и т.д.)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иалогическ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беседа, дискуссия, дебаты, переговоры, ролевая игра, театрализация, турнир, интервью, защита проекта и другие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228600" y="1219320"/>
            <a:ext cx="8534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икл познавательных действ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восприятие (через чтение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нимание, осмысление (через ответы на вопросы фронтально, в парах или группах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интерпретацию (через выбор мнения, принятие решения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оздание собственного «встречного» текста-дискурса (через участие в диалоге, в обсуждении, написание собственного текста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152280" y="228600"/>
            <a:ext cx="868680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ы чт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мментированное чт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знакомительно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зучающе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исково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ыразительное чте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агмента художественного произведения, притчи, диалога, которое способствует эмоционально эстетическому восприятию тек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038480" y="3352680"/>
            <a:ext cx="46483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«Не составлять планов – значит запланировать свое поражение»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(Бенджамин Франкл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4"/>
          <p:cNvSpPr txBox="1"/>
          <p:nvPr/>
        </p:nvSpPr>
        <p:spPr>
          <a:xfrm rot="20671200">
            <a:off x="533520" y="1066680"/>
            <a:ext cx="41148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ЭПИГРА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152280" y="228600"/>
            <a:ext cx="876312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ы работы с учебной информаци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Прогнозирование содержания урока по названию с опорой на изученный ранее материал или индивидуальный опы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понимание основной мысли текста, выделение ключевых сл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прогнозирование последовательности излож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сопоставление разные точек зр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смысловое свертывание содержания текста (сжатый пересказ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) сопоставление иллюстративного материал с содержанием текс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) перенос информации в виде кратких запис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) выбор необходимой информации из текс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) анализ своего эмоционального состояния в процессе чт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) постановка вопросов к прочитанно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пология учебных текс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сиономические тексты: содержат достоверную (научную) информацию, фактический материал, терминологический аппарат, характеризуются отсутствием эмоций и авторской поз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атизирующие тексты содержат проблемную информацию, рассуждения, умозаклю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чностно окрашенные тексты содержат обращение к личностному опыту, эмоциям, образу жизни, чувствам и ощущениям чит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ностно-окрашенные тексты интерпретируют информацию в контексте культурных и духовных ценностей, нравственных проблем, жизненных пози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пология учебных вопросов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ые (фактические) вопросы (Что…? Кто...? Когда…?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точняющие вопросы (Правильно ли я понял, что …? Можно ли сказать, что…?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претационные (объясняющие) вопросы (Почему…?, В чём причина…?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ценочные (В чём отличие…? В чём сильные и слабые стороны…?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орческие (аналитико-синтетические) (А что было бы…? Как изменится…, если…?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ческие (применение) (Как сделать так, чтобы…? Как применить в жизни…?).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F:\рису\vopros2.png"/>
          <p:cNvPicPr/>
          <p:nvPr/>
        </p:nvPicPr>
        <p:blipFill>
          <a:blip r:embed="rId1"/>
          <a:stretch/>
        </p:blipFill>
        <p:spPr>
          <a:xfrm>
            <a:off x="1403280" y="2708280"/>
            <a:ext cx="4444920" cy="4444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npid_13885"/>
          <p:cNvPicPr/>
          <p:nvPr/>
        </p:nvPicPr>
        <p:blipFill>
          <a:blip r:embed="rId2"/>
          <a:stretch/>
        </p:blipFill>
        <p:spPr>
          <a:xfrm>
            <a:off x="468360" y="838080"/>
            <a:ext cx="1949400" cy="243684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" descr="http://lib.1september.ru/2004/18/11_1.jpg"/>
          <p:cNvPicPr/>
          <p:nvPr/>
        </p:nvPicPr>
        <p:blipFill>
          <a:blip r:embed="rId3"/>
          <a:srcRect l="12092" t="5326" r="11193" b="0"/>
          <a:stretch/>
        </p:blipFill>
        <p:spPr>
          <a:xfrm rot="2017200">
            <a:off x="2916000" y="260280"/>
            <a:ext cx="5607000" cy="51897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1"/>
          <p:cNvSpPr/>
          <p:nvPr/>
        </p:nvSpPr>
        <p:spPr>
          <a:xfrm>
            <a:off x="4428360" y="5351400"/>
            <a:ext cx="462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омашка Блу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183240" y="3312360"/>
            <a:ext cx="296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мериканск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психол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Бенджамин Блум</a:t>
            </a:r>
            <a:r>
              <a:rPr b="1" lang="en-US" sz="2400" spc="-1" strike="noStrike">
                <a:solidFill>
                  <a:srgbClr val="bbe0e3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913—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hema"/>
          <p:cNvPicPr/>
          <p:nvPr/>
        </p:nvPicPr>
        <p:blipFill>
          <a:blip r:embed="rId1"/>
          <a:stretch/>
        </p:blipFill>
        <p:spPr>
          <a:xfrm>
            <a:off x="900000" y="0"/>
            <a:ext cx="679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304920" y="304920"/>
            <a:ext cx="8839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пересказ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роб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позволяет запомнить и воспроизвести детали, подробности, иногда даже индивидуальный стиль первоисточни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т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требуют сжатия информации, выделения главного, выявления причинно-следственных связей;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ыбороч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способствует совершенствованию умений в области поиска и дифференциации информации. Задания, обращающие ученика к этому виду речевой деятельности, могут быть сформулированы непосредственно (например: «Перескажите содержание фрагмента текста»), а могут быть «замаскированы» под различными формулировками: «Расскажите…», «Объясните, …», «Прокомментируйте то, что изображено на иллюстрации и т.д.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152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ТЧ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дактико-аллегорический литературный жанр, заключающий в себе моральное или религиозное поучение (глубинную премудрост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пособы использования притч в учебном процесс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уждение основной идеи и смысла истор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названия притчи (или задание придумать притче новое название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тча без окончания – обсуждение, чем она могла бы закончитьс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люстрация рассказа (предложить рисунки, картинки, фотографии, изображения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ормулировать вопросы или ответить на поставленные вопрос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делить ключевые понят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ценировка по рассказу (истори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или предположить (вставить) пропущенные сл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еть притчу с ролевой, религиозной конфессии, социальной роли и т.п.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ение нескольких притч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ота с иллюстрац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ллюстрац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зуальное средство обучения, компонент содержания учебника или урока, средство наглядности (рисунки, фотографии, таблицы, таблицы, схемы и т.п.), поясняющие или дополняющие какой-либо текст….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зуальное средство обучения, поясняющее или дополняющее какой-либо текст (Э. Г. Азимов и А. И. Щукин «Словарь методических терминов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ллюстрац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или фотоиллюстрация) – неподвижное (статичное) реалистическое изображение объекта, основная дидактическая функция которого – формирование наглядных представлений. В обучении используется при изучении уникальных, недоступных для непосредственного наблюдения объектов (портрет исторического лица, события, природного явления). («Педагогический словарь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ллюстративный материа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ветное или черно-белое изображение, которое специфическими, только ему присущими средствами, находясь в тесном взаимодействии с другими структурными компонентами, реализует научно-педагогические и дидактические принципы, заложенные в учебн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685440"/>
            <a:ext cx="86868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изуально-графическое изобр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картина (любой рисунок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фотограф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карикатур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лака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реклам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схема (диаграмма, таблица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символика (гербы, флаги, религиозные символы и т.п.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здания и скульптурные изображен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мв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9" descr=""/>
          <p:cNvPicPr/>
          <p:nvPr/>
        </p:nvPicPr>
        <p:blipFill>
          <a:blip r:embed="rId1"/>
          <a:stretch/>
        </p:blipFill>
        <p:spPr>
          <a:xfrm>
            <a:off x="0" y="1643040"/>
            <a:ext cx="2214720" cy="1785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2"/>
          <a:stretch/>
        </p:blipFill>
        <p:spPr>
          <a:xfrm>
            <a:off x="2214720" y="1643040"/>
            <a:ext cx="2357280" cy="1785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2428920" cy="1785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"/>
          <p:cNvPicPr/>
          <p:nvPr/>
        </p:nvPicPr>
        <p:blipFill>
          <a:blip r:embed="rId4"/>
          <a:stretch/>
        </p:blipFill>
        <p:spPr>
          <a:xfrm>
            <a:off x="6929280" y="1643040"/>
            <a:ext cx="2214720" cy="1785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5"/>
          <a:stretch/>
        </p:blipFill>
        <p:spPr>
          <a:xfrm>
            <a:off x="2214720" y="4500720"/>
            <a:ext cx="2286000" cy="2357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6"/>
          <a:stretch/>
        </p:blipFill>
        <p:spPr>
          <a:xfrm>
            <a:off x="4500720" y="4500720"/>
            <a:ext cx="2428560" cy="2357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7"/>
          <a:stretch/>
        </p:blipFill>
        <p:spPr>
          <a:xfrm>
            <a:off x="6929280" y="4500720"/>
            <a:ext cx="2214720" cy="2357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"/>
          <p:cNvPicPr/>
          <p:nvPr/>
        </p:nvPicPr>
        <p:blipFill>
          <a:blip r:embed="rId8"/>
          <a:stretch/>
        </p:blipFill>
        <p:spPr>
          <a:xfrm>
            <a:off x="0" y="4500720"/>
            <a:ext cx="22147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много теор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ГОС НО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уховно-нравственное вос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апредмет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остные результ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КСЭ – учебный предм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457200" y="457200"/>
            <a:ext cx="83059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ность ребенка самостоятельно работать с различными источниками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иллюстрация рассказ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ополнительная информ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мение находить ответ на поставленный вопрос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- эстетическое эмоциональное развитие лич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- приобщение к культурным исто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228600" y="228600"/>
            <a:ext cx="876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овательные 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звивать у учащихся наглядно-образное мышл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нимать и запоминать теоретические свед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скрывать познавательные и воспитательные функции текс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могать осваивать практические навы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ижные иллюстрации, являющиеся (или изображающие) произведениями изобразительного искусства (художественные иллюстрации, репродукции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пособствуют развитию коммуникативных умений, совершенствованию речи школьник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скрывают (расширяют, уточняют) содержание текс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усиливают познавательные и воспитательные функции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457200" y="380880"/>
            <a:ext cx="84582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ификация иллюстрац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сурсы реалистического визуального ряда: фотоизображения экспонатов, объектов предметн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сурсы синтезированного визуального ряда: иллюстрации к текстам, репродукции произведений живописи, динамические моде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овая графика: таблицы, графики, схемы, диаграммы, картографические материал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228600" y="304920"/>
            <a:ext cx="89154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рганизовать как фронтальную работу с классом, так и индивидуальную деятельность учащихс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ивают длительный показ информ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егчают возвращение к ранее пройденному и могут быть использованы для демонстрации перспективы в изучении материал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воляют систематизировать, обобщать ранее изученно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коллажи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вященные, как правило, современным жизненным явлениям, помогают создать определенные речевые ситу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графи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ют возмож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тражать характерные черты повседневности той или иной исторической эпох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казывать важнейшие исторические события и исторических деятелей в наиболее ярких образах, действиях, ситуациях (такая фотография «работает» гораздо эффективнее стандартных фотопортретов, которыми изобилуют наши учебник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продукции картин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вестных художников воспитывают эстетический вкус, расширяют кругозор учащих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исунки-схемы юмористического характер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ют образное мышление, задают характер неравнодушного отношения к изучаемой те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пекты художественного восприятия (по Юсупову Б.П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знавательный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беспечивается эрудицией ребенка и связан с усвоением информации об искусстве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увственный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пределяется эмоциональной отзывчивостью, чувством формы и структуры произведения в их совокупности с содержанием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равственно-волевой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(аффективный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вязан с сопереживанием явлению искусства в его целостности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ы формирования личностного смысла произведения искусств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ление ценностных приоритетов эпох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духовно-нравственной позиции авт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поставление художественных образов разных видов искусства по принципу сходства и различия ценностных установ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63"/>
          <p:cNvPicPr/>
          <p:nvPr/>
        </p:nvPicPr>
        <p:blipFill>
          <a:blip r:embed="rId1"/>
          <a:stretch/>
        </p:blipFill>
        <p:spPr>
          <a:xfrm>
            <a:off x="609480" y="2514600"/>
            <a:ext cx="1844640" cy="3352680"/>
          </a:xfrm>
          <a:prstGeom prst="rect">
            <a:avLst/>
          </a:prstGeom>
          <a:ln w="0">
            <a:noFill/>
          </a:ln>
        </p:spPr>
      </p:pic>
      <p:sp>
        <p:nvSpPr>
          <p:cNvPr id="176" name="WordArt 5"/>
          <p:cNvSpPr txBox="1"/>
          <p:nvPr/>
        </p:nvSpPr>
        <p:spPr>
          <a:xfrm>
            <a:off x="2666880" y="3809880"/>
            <a:ext cx="601992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Что такое обучени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Organization Chart 3"/>
          <p:cNvGrpSpPr/>
          <p:nvPr/>
        </p:nvGrpSpPr>
        <p:grpSpPr>
          <a:xfrm>
            <a:off x="457200" y="1600200"/>
            <a:ext cx="8152560" cy="4413600"/>
            <a:chOff x="457200" y="1600200"/>
            <a:chExt cx="8152560" cy="4413600"/>
          </a:xfrm>
        </p:grpSpPr>
        <p:cxnSp>
          <p:nvCxnSpPr>
            <p:cNvPr id="98" name="_s1028"/>
            <p:cNvCxnSpPr>
              <a:stCxn id="99" idx="0"/>
              <a:endCxn id="100" idx="2"/>
            </p:cNvCxnSpPr>
            <p:nvPr/>
          </p:nvCxnSpPr>
          <p:spPr>
            <a:xfrm flipV="1" rot="16200000">
              <a:off x="5189040" y="2709360"/>
              <a:ext cx="883440" cy="2194920"/>
            </a:xfrm>
            <a:prstGeom prst="bentConnector3">
              <a:avLst>
                <a:gd name="adj1" fmla="val 12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1029"/>
            <p:cNvCxnSpPr>
              <a:stCxn id="102" idx="0"/>
              <a:endCxn id="100" idx="2"/>
            </p:cNvCxnSpPr>
            <p:nvPr/>
          </p:nvCxnSpPr>
          <p:spPr>
            <a:xfrm flipH="1" flipV="1" rot="5400000">
              <a:off x="2994480" y="2709000"/>
              <a:ext cx="883440" cy="2196000"/>
            </a:xfrm>
            <a:prstGeom prst="bentConnector3">
              <a:avLst>
                <a:gd name="adj1" fmla="val 12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0" name="_s1030"/>
            <p:cNvSpPr/>
            <p:nvPr/>
          </p:nvSpPr>
          <p:spPr>
            <a:xfrm>
              <a:off x="2652480" y="1600200"/>
              <a:ext cx="3762720" cy="17654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учени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1"/>
            <p:cNvSpPr/>
            <p:nvPr/>
          </p:nvSpPr>
          <p:spPr>
            <a:xfrm>
              <a:off x="457200" y="4248360"/>
              <a:ext cx="3762720" cy="176544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Деятельнос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учител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32"/>
            <p:cNvSpPr/>
            <p:nvPr/>
          </p:nvSpPr>
          <p:spPr>
            <a:xfrm>
              <a:off x="4847040" y="4248360"/>
              <a:ext cx="3762720" cy="176544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Учебная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деятельнос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Формула обу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600200"/>
          <a:ext cx="8229600" cy="5234040"/>
        </p:xfrm>
        <a:graphic>
          <a:graphicData uri="http://schemas.openxmlformats.org/drawingml/2006/table">
            <a:tbl>
              <a:tblPr/>
              <a:tblGrid>
                <a:gridCol w="1371600"/>
                <a:gridCol w="1374840"/>
                <a:gridCol w="1292040"/>
                <a:gridCol w="1447920"/>
                <a:gridCol w="1436760"/>
                <a:gridCol w="1306440"/>
              </a:tblGrid>
              <a:tr h="112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-тельные ц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ва-ющие ц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-тельные ц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66cc"/>
                          </a:solidFill>
                          <a:latin typeface="Arial"/>
                        </a:rPr>
                        <a:t>З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Творче-ские способ-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Интел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лек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Д 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УД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66cc"/>
                          </a:solidFill>
                          <a:latin typeface="Arial"/>
                        </a:rPr>
                        <a:t>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66cc"/>
                          </a:solidFill>
                          <a:latin typeface="Arial"/>
                        </a:rPr>
                        <a:t>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5" name="Text Box 37"/>
          <p:cNvSpPr/>
          <p:nvPr/>
        </p:nvSpPr>
        <p:spPr>
          <a:xfrm>
            <a:off x="6351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8"/>
          <p:cNvSpPr/>
          <p:nvPr/>
        </p:nvSpPr>
        <p:spPr>
          <a:xfrm>
            <a:off x="7792920" y="337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9"/>
          <p:cNvSpPr/>
          <p:nvPr/>
        </p:nvSpPr>
        <p:spPr>
          <a:xfrm>
            <a:off x="1332000" y="4149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0"/>
          <p:cNvSpPr/>
          <p:nvPr/>
        </p:nvSpPr>
        <p:spPr>
          <a:xfrm>
            <a:off x="2484360" y="4149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1"/>
          <p:cNvSpPr/>
          <p:nvPr/>
        </p:nvSpPr>
        <p:spPr>
          <a:xfrm>
            <a:off x="4500720" y="1628640"/>
            <a:ext cx="71280" cy="5229360"/>
          </a:xfrm>
          <a:custGeom>
            <a:avLst/>
            <a:gdLst>
              <a:gd name="textAreaLeft" fmla="*/ 20880 w 71280"/>
              <a:gd name="textAreaRight" fmla="*/ 71640 w 71280"/>
              <a:gd name="textAreaTop" fmla="*/ 217800 h 5229360"/>
              <a:gd name="textAreaBottom" fmla="*/ 5011560 h 5229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2"/>
          <p:cNvSpPr/>
          <p:nvPr/>
        </p:nvSpPr>
        <p:spPr>
          <a:xfrm>
            <a:off x="8459640" y="1628640"/>
            <a:ext cx="144720" cy="5229360"/>
          </a:xfrm>
          <a:custGeom>
            <a:avLst/>
            <a:gdLst>
              <a:gd name="textAreaLeft" fmla="*/ 0 w 144720"/>
              <a:gd name="textAreaRight" fmla="*/ 101520 w 144720"/>
              <a:gd name="textAreaTop" fmla="*/ 217800 h 5229360"/>
              <a:gd name="textAreaBottom" fmla="*/ 5011560 h 522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Образовательные цели и этапы учебного проце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523880"/>
          <a:ext cx="8229600" cy="5332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2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Образовательные це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Этапы учебного процес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им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роизвед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введение зна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воспроизведени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овари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жнения, задач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кратное повторение действ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Line 20"/>
          <p:cNvSpPr/>
          <p:nvPr/>
        </p:nvSpPr>
        <p:spPr>
          <a:xfrm flipV="1">
            <a:off x="900000" y="3068280"/>
            <a:ext cx="719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1"/>
          <p:cNvSpPr/>
          <p:nvPr/>
        </p:nvSpPr>
        <p:spPr>
          <a:xfrm>
            <a:off x="900000" y="3500280"/>
            <a:ext cx="5032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нан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воспроизведение, понимая, осмысливая, научной информации (творческое – открытие знан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мен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применение знаний на практике автоматизированное дей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вык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автоматизированное дей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результ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бразовательная программа (урочная и внеурочная деятельн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сло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school-children_6-150x150"/>
          <p:cNvPicPr/>
          <p:nvPr/>
        </p:nvPicPr>
        <p:blipFill>
          <a:blip r:embed="rId1"/>
          <a:stretch/>
        </p:blipFill>
        <p:spPr>
          <a:xfrm>
            <a:off x="7315200" y="4952880"/>
            <a:ext cx="155268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учающие це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редметные результаты (ЗУН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азвивающие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- метапредмет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познавательные – интеллектуальные творческие способ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коммуникативные – общение (формируются в паре, в групп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 регулятивные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цель (решить проблему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ланирование (как проверить гипотезу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ыполнение и контроль, предъявление продукта (сравнить с образцом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цен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ефлексия (анализ и самоанали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оспитательн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личностный (патриотизм – не формируется объяснением, а переживается, открывается); мотивация (внутренняя познавательна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обеспеч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ы – сочетание вопросов, приёмов, зад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– содержание зада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методика – творческий продукт учите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идактические единицы (атомы содержа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Эмпирические (нельзя открывать)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факт (единичная информация, выраженная в суждении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ростое понятие-описание (приведение разных признаков в виде текста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ложное понятие-описание (план – фрей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Теоретические (содержат обобщение, можно открыва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ростое понятие-определение – обобщение существующих признаков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сложное понятие-определение (несколько по план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равило – обобщение способов действия (делай так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закономерность – обобщение связей между понятиями (если, то…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AVM-3</cp:lastModifiedBy>
  <dcterms:modified xsi:type="dcterms:W3CDTF">2013-04-02T04:41:48Z</dcterms:modified>
  <cp:revision>37</cp:revision>
  <dc:subject>уро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