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2B7-556B-4899-8B42-0AEA0452C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A47-889F-41C9-8617-EADBF356B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расчитан на то, что ребёнок 4-5 класса ещё только формируется и не в ступил в период пубертата, значит адекватно может воспринять информацию, которую грамотно преподнесёт педаго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2B3E-4690-4471-8D0D-89FC602B6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ние есть там, где сформирована система цен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08A-7370-4CE6-A3AE-25CD173D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E5C-72FF-4B0C-9FFD-9361E0A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3B3-35EB-4B90-9809-EB47FEC3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7C8-ABA6-4FB8-844F-84BC21BD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122-5CB2-4521-BDE5-C8C1C81C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40C1-4969-45A7-AE3E-09478FFC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BA1F-238B-42E9-BC4E-9A33B3A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5A09-D601-414C-BBA8-C04FC4D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D348-48A0-4358-B244-4FEF9A0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641-F1EF-4AED-8EC5-E0597365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B18F-7E60-4138-B674-97FE88A6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18B-CF60-4836-804D-2473110F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CC71-7B27-448A-81CA-B35CB95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65A2-DE89-4917-89D0-8F6FD98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A27-7719-4F00-80B9-E8CD18D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1517-7526-4697-954B-8353E687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1AA-42FA-4E6C-87B6-51CAB58A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EB9-57AA-46CE-A213-4668017D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769-C518-43D5-8CEA-EDDC2828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2C6-A6B1-431E-9E6F-A8C53CA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FF2-06B2-4CB3-ACB7-46B90DB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98F-4B1F-42C0-804C-56EF724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254-C1D2-4C66-BF7D-59B54A13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235-AE35-4B11-9AB8-AB106F3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9D7-29F8-492A-B4F0-788C140063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11F-FB1D-4CF5-8DF9-98CE3FB287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testant.ru/images/big_44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1" lang="en-US" sz="7600" spc="-1" strike="noStrike">
                <a:solidFill>
                  <a:srgbClr val="666699"/>
                </a:solidFill>
                <a:latin typeface="Garamond"/>
              </a:rPr>
              <a:t>«</a:t>
            </a:r>
            <a:r>
              <a:rPr b="1" lang="en-US" sz="5400" spc="-1" strike="noStrike">
                <a:solidFill>
                  <a:srgbClr val="666699"/>
                </a:solidFill>
                <a:latin typeface="Garamond"/>
              </a:rPr>
              <a:t>Основы религиозных культур и светской этики»</a:t>
            </a:r>
            <a:endParaRPr b="0" lang="en-US" sz="5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держание и структур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омплексного учебного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66699"/>
                </a:solidFill>
                <a:latin typeface="Arial"/>
              </a:rPr>
              <a:t>Блок 4. Духовные традиции многонационального народа России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тоговый, обобщающий и оценочны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едусматривает подготовку и презентацию творческих проектов на основе изученного материала. Проекты могут быть как индивидуальными, так и коллективными. На презентацию проектов приглашаются родите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ходе подготовки проекта учащиеся получают возможность обобщить ранее изученный материал, освоить его еще раз, но уже в активной, творческой фор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ходе презентации проектов все учащиеся класса получают возможность ознакомиться с основным содержание всех 6 модулей, узнать о других духовных и культурных традициях России от своих однокласс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4643280" y="57862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а курса ОРКиСЭ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Garamond"/>
              </a:rPr>
              <a:t>Базовые ценности</a:t>
            </a:r>
            <a:endParaRPr b="0" lang="en-US" sz="5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7128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держание всех модуле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мплексного учебного предмета подчинено общей цели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оспитанию личности гражданина России посредством приобщения его к одной из национальных духовны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ади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держание каждого из модулей организуется вокруг трех базовых национальных ценностей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ечеств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мь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елиг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MPj04332360000[1]"/>
          <p:cNvPicPr/>
          <p:nvPr/>
        </p:nvPicPr>
        <p:blipFill>
          <a:blip r:embed="rId1"/>
          <a:stretch/>
        </p:blipFill>
        <p:spPr>
          <a:xfrm>
            <a:off x="6716880" y="0"/>
            <a:ext cx="24271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а 1 из 3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333360"/>
            <a:ext cx="3127320" cy="234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611280" y="2852640"/>
            <a:ext cx="828972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 1 сентября 2012 го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преподавание курса вводится во всех субъектах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Курс основы религиозных культур и светской этики</a:t>
            </a:r>
            <a:endParaRPr b="0" lang="en-US" sz="3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ультуроведчески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аправлен на развитие у школьников 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лассов представлений о нравственных идеалах и ценностях, составляющих основу религиозных и светских традиций многонациональной культуры России, на понимание их значения в жизни современного общества, а также своей сопричастности к ним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470560" y="630864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сновная точка зрения на предм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Цель комплексного учебного курса «Основы религиозных культур и светской этики»</a:t>
            </a:r>
            <a:endParaRPr b="0" lang="en-US" sz="27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470560" y="630864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истема достижения це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Курс основы религиозных культур и светской этики</a:t>
            </a:r>
            <a:endParaRPr b="0" lang="en-US" sz="3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ключает в себя 6 модулей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православной культу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исламской культу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буддийской культу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иудейской культур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мировых религиозных культу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191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новы светской эт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Garamond"/>
              </a:rPr>
              <a:t>ФЕДЕРАЛЬНЫЙ ГОСУДАРСТВЕННЫЙ ОБРАЗОВАТЕЛЬНЫЙ СТАНДАРТ</a:t>
            </a:r>
            <a:br>
              <a:rPr sz="2400"/>
            </a:br>
            <a:r>
              <a:rPr b="1" lang="en-US" sz="2400" spc="-1" strike="noStrike">
                <a:solidFill>
                  <a:srgbClr val="666699"/>
                </a:solidFill>
                <a:latin typeface="Garamond"/>
              </a:rPr>
              <a:t>НАЧАЛЬНОГО ОБЩЕГО ОБРАЗОВАНИЯ</a:t>
            </a:r>
            <a:endParaRPr b="0" lang="en-US" sz="2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Образовательная область  - «</a:t>
            </a:r>
            <a:r>
              <a:rPr b="1" lang="en-US" sz="2500" spc="-1" strike="noStrike">
                <a:solidFill>
                  <a:srgbClr val="ff0000"/>
                </a:solidFill>
                <a:latin typeface="Verdana"/>
              </a:rPr>
              <a:t>Основы духовно-нравственной  культуры народов России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спитание способности к духовному развитию, нравственному самосовершенствованию.  Формирование первоначальных представлений о светской этике, об отечественных традиционных религиях, их роли в культуре, истории и современности Росс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руктура учебного курс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28760" y="100008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а с участием РАН, РАО, ФИРО, АПК ППРО, представителей религиозных конфесс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6 вариантов курса разработаны на единой методической осно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 состоит из 4-х бло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и 4 блоки посвящены патриотическим ценностям, межкультурному и межконфессиональному диалогу и будут изучаться всем классом вмес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Структура комплексного учебного курса</a:t>
            </a:r>
            <a:br>
              <a:rPr sz="2700"/>
            </a:b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«Основы религиозных культур и светской этики» (34 часа)</a:t>
            </a:r>
            <a:endParaRPr b="0" lang="en-US" sz="27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4 класс, (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час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лок 1 (общий для всех модулей). Введение. Духовные ценности и нравственные идеалы в жизни человека и общества (1 час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лок 2. Основы религиозных культур и светской этики. Часть 1. (16 часов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лок 3. Основы религиозных культур и светской этики. Часть 2. (12 часов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лок 4 (общий для всех модулей). Духовные традиции многонационального народа России (5 часов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666699"/>
                </a:solidFill>
                <a:latin typeface="Arial"/>
              </a:rPr>
              <a:t>Духовные ценности и нравственные идеалы в жизни человека и общества. </a:t>
            </a:r>
            <a:br>
              <a:rPr sz="1900"/>
            </a:br>
            <a:r>
              <a:rPr b="1" i="1" lang="en-US" sz="1900" spc="-1" strike="noStrike">
                <a:solidFill>
                  <a:srgbClr val="666699"/>
                </a:solidFill>
                <a:latin typeface="Arial"/>
              </a:rPr>
              <a:t>Духовные традиции многонационального народа России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локи 1 и 4 посвящены патриотическим ценностям и нравственному содержанию межкультурного и межконфессионального диалога как фактора общественного согласия. Уроки в рамках этих блоков проводятся для всего класса вмест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 желанию учителя возможно также проведение совместных завершающих уроков в блоке 2, связанных с презентациями творческих проектов учащихс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5:18:07Z</dcterms:created>
  <dc:creator>gorbunova</dc:creator>
  <dc:description/>
  <dc:language>en-US</dc:language>
  <cp:lastModifiedBy>а</cp:lastModifiedBy>
  <dcterms:modified xsi:type="dcterms:W3CDTF">2012-10-14T18:48:03Z</dcterms:modified>
  <cp:revision>28</cp:revision>
  <dc:subject/>
  <dc:title>«Основы религиозных культур и светской этики»</dc:title>
</cp:coreProperties>
</file>