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8.png" ContentType="image/png"/>
  <Override PartName="/ppt/media/image12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68580-CC77-4F2D-8C2E-BAEBEA436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16C6A-E0DF-4AAF-90C1-E3C610477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84551-BE35-4146-BAA6-29DF3E4F9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8FDB4-57A3-4042-957A-2CF2BE2EB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4FCFC-322D-4CFC-B5D3-B35F089FE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18520-113A-4ECC-8B0D-002429B7D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360CB-072F-45BB-A3F5-FBBF72D61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B5F46-0421-4643-BA99-C70ED2E04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77748-E3F7-4349-9D78-497179354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5EC1E-757F-45DF-9BDD-B590449EE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EDB10-6453-4E09-8EC5-D6D0EC7F0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5AC6D-384B-433E-931C-7585CA857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239BF-5721-48F8-BFBC-16B6DCBFD02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hyperlink" Target="http://www.photowall.ru/preview/15/img119.jpg" TargetMode="External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4"/>
          <p:cNvSpPr/>
          <p:nvPr/>
        </p:nvSpPr>
        <p:spPr>
          <a:xfrm>
            <a:off x="468360" y="1484280"/>
            <a:ext cx="8351640" cy="5184720"/>
          </a:xfrm>
          <a:prstGeom prst="rect">
            <a:avLst/>
          </a:prstGeom>
          <a:solidFill>
            <a:srgbClr val="95373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62800" cy="1143000"/>
          </a:xfrm>
          <a:prstGeom prst="rect">
            <a:avLst/>
          </a:prstGeom>
          <a:solidFill>
            <a:srgbClr val="953735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6b9b8"/>
                </a:solidFill>
                <a:latin typeface="Arial Black"/>
              </a:rPr>
              <a:t>РОДИТЕЛИ И ДЕТИ – ОБ ОРКСЭ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Содержимое 3" descr="001-big.jpg"/>
          <p:cNvPicPr/>
          <p:nvPr/>
        </p:nvPicPr>
        <p:blipFill>
          <a:blip r:embed="rId1"/>
          <a:stretch/>
        </p:blipFill>
        <p:spPr>
          <a:xfrm>
            <a:off x="755640" y="1628640"/>
            <a:ext cx="7777080" cy="4824720"/>
          </a:xfrm>
          <a:prstGeom prst="rect">
            <a:avLst/>
          </a:prstGeom>
          <a:ln w="76320">
            <a:solidFill>
              <a:srgbClr val="63252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Заголовок 1" descr=""/>
          <p:cNvPicPr/>
          <p:nvPr/>
        </p:nvPicPr>
        <p:blipFill>
          <a:blip r:embed="rId1"/>
          <a:stretch/>
        </p:blipFill>
        <p:spPr>
          <a:xfrm>
            <a:off x="450720" y="139680"/>
            <a:ext cx="8242560" cy="12924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 txBox="1"/>
          <p:nvPr/>
        </p:nvSpPr>
        <p:spPr>
          <a:xfrm>
            <a:off x="457200" y="1599840"/>
            <a:ext cx="8229600" cy="4924440"/>
          </a:xfrm>
          <a:prstGeom prst="rect">
            <a:avLst/>
          </a:prstGeom>
          <a:solidFill>
            <a:srgbClr val="fcd5b5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5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5c0000"/>
                </a:solidFill>
                <a:latin typeface="Arial Black"/>
              </a:rPr>
              <a:t>Норик Всеволод: </a:t>
            </a:r>
            <a:r>
              <a:rPr b="0" lang="ru-RU" sz="2500" spc="-1" strike="noStrike">
                <a:solidFill>
                  <a:srgbClr val="5c0000"/>
                </a:solidFill>
                <a:latin typeface="Arial Black"/>
              </a:rPr>
              <a:t>«Предмет ОПК помогает понять свою душу, узнать родную культуру»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5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5c0000"/>
                </a:solidFill>
                <a:latin typeface="Arial Black"/>
              </a:rPr>
              <a:t>Хижняк Вика:</a:t>
            </a:r>
            <a:r>
              <a:rPr b="0" lang="ru-RU" sz="2500" spc="-1" strike="noStrike">
                <a:solidFill>
                  <a:srgbClr val="5c0000"/>
                </a:solidFill>
                <a:latin typeface="Arial Black"/>
              </a:rPr>
              <a:t>  «После уроков по основам православной культуры, у меня становится светлее на душе, как будто внутри загорается маленький фонарик»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5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5c0000"/>
                </a:solidFill>
                <a:latin typeface="Arial Black"/>
              </a:rPr>
              <a:t>Ударцев Женя:  </a:t>
            </a:r>
            <a:r>
              <a:rPr b="0" lang="ru-RU" sz="2500" spc="-1" strike="noStrike">
                <a:solidFill>
                  <a:srgbClr val="5c0000"/>
                </a:solidFill>
                <a:latin typeface="Arial Black"/>
              </a:rPr>
              <a:t>«На этом уроке я узнал много интересного. Сначала я думал, что урок скучный, но потом мне он очень понравился…»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5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5c0000"/>
                </a:solidFill>
                <a:latin typeface="Arial Black"/>
              </a:rPr>
              <a:t>Киселева Ира: </a:t>
            </a:r>
            <a:r>
              <a:rPr b="0" lang="ru-RU" sz="2500" spc="-1" strike="noStrike">
                <a:solidFill>
                  <a:srgbClr val="5c0000"/>
                </a:solidFill>
                <a:latin typeface="Arial Black"/>
              </a:rPr>
              <a:t>«Я с большим удовольствием иду на урок, выполняю все творческие задания. Мне это все очень пригодится в будущем»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295280"/>
          </a:xfrm>
          <a:prstGeom prst="rect">
            <a:avLst/>
          </a:prstGeom>
          <a:solidFill>
            <a:srgbClr val="fcd5b5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20000"/>
                </a:solidFill>
                <a:latin typeface="Arial Black"/>
              </a:rPr>
              <a:t>Фрагмент выписки из протокола заседания Управляющего Совета О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997520"/>
          </a:xfrm>
          <a:prstGeom prst="rect">
            <a:avLst/>
          </a:prstGeom>
          <a:solidFill>
            <a:srgbClr val="fcd5b5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2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20000"/>
                </a:solidFill>
                <a:latin typeface="Arial Black"/>
              </a:rPr>
              <a:t>«Родители одобряют изучение в школе предмета – основы православной культуры. Они надеются, что это поможет нашим детям определить свою позицию по отношению к людям разных национальностей»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2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20000"/>
                </a:solidFill>
                <a:latin typeface="Arial Black"/>
              </a:rPr>
              <a:t>«В настоящее время это важный вопрос: создаются различные националистические организации, страшно за судьбу детей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2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20000"/>
                </a:solidFill>
                <a:latin typeface="Arial Black"/>
              </a:rPr>
              <a:t>«Жаль, что моему сыну, который учится в 6 классе, не придется изучать этот предмет. Изучение  этого предмета  очень важно в том плане, что у детей будет воспитываться ответственность за себя, свои поступки, за близких людей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42160" cy="1143000"/>
          </a:xfrm>
          <a:prstGeom prst="rect">
            <a:avLst/>
          </a:prstGeom>
          <a:solidFill>
            <a:srgbClr val="fac09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20000"/>
                </a:solidFill>
                <a:latin typeface="Arial Black"/>
              </a:rPr>
              <a:t>СВОБОДА ВЫБОРА МОДУЛЯ?</a:t>
            </a:r>
            <a:br>
              <a:rPr sz="3200"/>
            </a:br>
            <a:r>
              <a:rPr b="0" lang="ru-RU" sz="3200" spc="-1" strike="noStrike">
                <a:solidFill>
                  <a:srgbClr val="820000"/>
                </a:solidFill>
                <a:latin typeface="Arial Black"/>
              </a:rPr>
              <a:t>(авторы учебников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250920" y="1600200"/>
            <a:ext cx="8642160" cy="5068800"/>
          </a:xfrm>
          <a:prstGeom prst="rect">
            <a:avLst/>
          </a:prstGeom>
          <a:solidFill>
            <a:srgbClr val="fcd5b5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82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820000"/>
                </a:solidFill>
                <a:latin typeface="Arial Black"/>
              </a:rPr>
              <a:t>«Разрыв в три раза показывает, что эксперимент не отличается чистотой. Я уже объехал более половины 19 регионов, картина везде одна и та же, за исключением национальных республик. В национальных республиках процент выбравших ОПК близок к проценту русского населения, и это говорит о том, что национальные области менее подвержены давлению Москвы, в них более честно и открыто проходили выборы. В других регионах – Курганской, Пензенской областях, Красноярске – ноль избравших православие… Было давление, политический заказ одной из кремлевских башен, которым выгодно занизить рейтинг Русской Православной Церкви».</a:t>
            </a:r>
            <a:r>
              <a:rPr b="0" lang="en-US" sz="1900" spc="-1" strike="noStrike">
                <a:solidFill>
                  <a:srgbClr val="820000"/>
                </a:solidFill>
                <a:latin typeface="Arial Black"/>
              </a:rPr>
              <a:t> </a:t>
            </a:r>
            <a:r>
              <a:rPr b="0" lang="ru-RU" sz="1900" spc="-1" strike="noStrike">
                <a:solidFill>
                  <a:srgbClr val="820000"/>
                </a:solidFill>
                <a:latin typeface="Arial Black"/>
              </a:rPr>
              <a:t>А. Кураев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82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820000"/>
                </a:solidFill>
                <a:latin typeface="Arial Black"/>
              </a:rPr>
              <a:t>«Притом, что вариант, предложенный Минобрнауки, устроил все традиционные конфессии, их представители столкнулись с тем, что школы разными путями стремятся минимизировать число преподаваемых у себя модулей, в том числе за счет «Основ иудейской культуры». Это не имеет никакого отношения к антисемитизму. Просто учителей объективно не хватает».</a:t>
            </a:r>
            <a:r>
              <a:rPr b="0" lang="en-US" sz="1900" spc="-1" strike="noStrike">
                <a:solidFill>
                  <a:srgbClr val="820000"/>
                </a:solidFill>
                <a:latin typeface="Arial Black"/>
              </a:rPr>
              <a:t> </a:t>
            </a:r>
            <a:r>
              <a:rPr b="0" lang="ru-RU" sz="1900" spc="-1" strike="noStrike">
                <a:solidFill>
                  <a:srgbClr val="820000"/>
                </a:solidFill>
                <a:latin typeface="Arial Black"/>
              </a:rPr>
              <a:t>А. Глоцер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8920" y="188640"/>
            <a:ext cx="8713800" cy="1228680"/>
          </a:xfrm>
          <a:prstGeom prst="rect">
            <a:avLst/>
          </a:prstGeom>
          <a:solidFill>
            <a:srgbClr val="fcd5b5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820000"/>
                </a:solidFill>
                <a:latin typeface="Arial Black"/>
              </a:rPr>
              <a:t>СВОБОДА ВЫБОРА МОДУЛЯ?</a:t>
            </a:r>
            <a:br>
              <a:rPr sz="3200"/>
            </a:br>
            <a:r>
              <a:rPr b="0" lang="ru-RU" sz="3200" spc="-1" strike="noStrike">
                <a:solidFill>
                  <a:srgbClr val="820000"/>
                </a:solidFill>
                <a:latin typeface="Arial Black"/>
              </a:rPr>
              <a:t>(родители)</a:t>
            </a:r>
            <a:br>
              <a:rPr sz="3200"/>
            </a:b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178920" y="1600200"/>
            <a:ext cx="8713800" cy="5068800"/>
          </a:xfrm>
          <a:prstGeom prst="rect">
            <a:avLst/>
          </a:prstGeom>
          <a:solidFill>
            <a:srgbClr val="fcd5b5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2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20000"/>
                </a:solidFill>
                <a:latin typeface="Arial Black"/>
              </a:rPr>
              <a:t>«Выбор у нас был добровольно-принудительный. Нам сказали, что есть шесть модулей, но изучать мы будем именно эту программу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2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20000"/>
                </a:solidFill>
                <a:latin typeface="Arial Black"/>
              </a:rPr>
              <a:t>«Честно говоря, нам сказали, что школа решила изучать дисциплину, которая называется «Основы светской этики» из большого числа модулей, которые Вы назвали. Поэтому все родители пишут заявление: «Прошу, чтобы мой ребенок изучал основы светской этики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2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20000"/>
                </a:solidFill>
                <a:latin typeface="Arial Black"/>
              </a:rPr>
              <a:t>«Мы ничего не выбирали. У нас собрали собрание. Сказали, что убирается предмет природоведение. Будет новый предмет. Вот книжка. Мы начинаем учить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2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20000"/>
                </a:solidFill>
                <a:latin typeface="Arial Black"/>
              </a:rPr>
              <a:t>«У нас проводили опрос – хотите вы, не хотите. Согласия мы не давали, но его все равно ввели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2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20000"/>
                </a:solidFill>
                <a:latin typeface="Arial Black"/>
              </a:rPr>
              <a:t>«Мы ничего не выбирали. Я даже не поняла, о каком выборе Вы говорите. Вот Вы мне сейчас сказали насчет шести модулей. Какой-то буддийский, что-то еще. Проще говоря, я не въехала. Какое буддизм имеет отношение к нам – православным?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2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8642160" cy="1143000"/>
          </a:xfrm>
          <a:prstGeom prst="rect">
            <a:avLst/>
          </a:prstGeom>
          <a:solidFill>
            <a:srgbClr val="e6b9b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20000"/>
                </a:solidFill>
                <a:latin typeface="Arial Black"/>
              </a:rPr>
              <a:t>КОЛЛЕКТИВНЫЙ ИЛИ ИНДИВИДУАЛЬНЫЙ ВЫБОР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50920" y="1600200"/>
            <a:ext cx="8642160" cy="5068800"/>
          </a:xfrm>
          <a:prstGeom prst="rect">
            <a:avLst/>
          </a:prstGeom>
          <a:solidFill>
            <a:srgbClr val="f2dcdb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82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20000"/>
                </a:solidFill>
                <a:latin typeface="Arial Black"/>
              </a:rPr>
              <a:t>«Мы выбрали совмещенный курс единым по городу, потому что у нас многонациональная республика. Мы выбрали единый, который будет нейтральным. Выбор был, но получается так, что у нас нет такого количества преподавателей, чтобы каждому ребенку отдельно преподавать. И всех устроил вот этот нейтральный»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82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20000"/>
                </a:solidFill>
                <a:latin typeface="Arial Black"/>
              </a:rPr>
              <a:t>«Нет, мы были против, все родители были против этого [возможности выбрать один из модулей], потому, что у нас в классе есть и православные, и мусульмане… Мы решили, что все будем изучать один и тот же модуль»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82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20000"/>
                </a:solidFill>
                <a:latin typeface="Arial Black"/>
              </a:rPr>
              <a:t>«Мы вообще-то православные и хотели выбрать православие, но в классе выбирали между буддизмом и тем, где все религии вместе. Выбрали буддизм, все его изучаем»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82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20000"/>
                </a:solidFill>
                <a:latin typeface="Arial Black"/>
              </a:rPr>
              <a:t>«Мы выбирали, но не как Вы говорите, из шести, а только из двух. Мы выбирали между православием и светской этикой. Наш ребенок и еще одна девочка ходят на православие, а все остальные – на светскую этику»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82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20000"/>
                </a:solidFill>
                <a:latin typeface="Arial Black"/>
              </a:rPr>
              <a:t>«На родительском собрании мы решили, что будем выбирать только один аспект. Выбрали светскую этику, чтобы не затрагивать религию. Потому, что это сложно для детей 4 класса»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82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20000"/>
                </a:solidFill>
                <a:latin typeface="Arial Black"/>
              </a:rPr>
              <a:t>«Я вообще-то к светской этике не очень была склонна, когда мы выбирали. Но просто так получилось, что большая масса класса решили, что будут преподавать светскую этику, поэтому мы туда пошли. А я бы хотела, чтобы сын изучал христианство. А светскую этику мы уж сами как-нибудь расскажем»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82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8eb4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r>
              <a:rPr b="0" lang="ru-RU" sz="2500" spc="-1" strike="noStrike">
                <a:solidFill>
                  <a:srgbClr val="10253f"/>
                </a:solidFill>
                <a:latin typeface="Arial Black"/>
              </a:rPr>
              <a:t>ПРОЦЕНТ</a:t>
            </a:r>
            <a:r>
              <a:rPr b="0" lang="ru-RU" sz="2500" spc="-1" strike="noStrike">
                <a:solidFill>
                  <a:srgbClr val="10253f"/>
                </a:solidFill>
                <a:latin typeface="Calibri"/>
              </a:rPr>
              <a:t> </a:t>
            </a:r>
            <a:r>
              <a:rPr b="0" lang="ru-RU" sz="2500" spc="-1" strike="noStrike">
                <a:solidFill>
                  <a:srgbClr val="10253f"/>
                </a:solidFill>
                <a:latin typeface="Arial Black"/>
              </a:rPr>
              <a:t>РОДИТЕЛЕЙ, КОТОРЫМ БЫЛА ПРЕДОСТАВЛЕНА ВОЗМОЖНОСТЬ ВЫБРАТЬ МОДУЛЬ КУРСА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Объект 2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331120" cy="46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228680"/>
          </a:xfrm>
          <a:prstGeom prst="rect">
            <a:avLst/>
          </a:prstGeom>
          <a:solidFill>
            <a:srgbClr val="fcd5b5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20000"/>
                </a:solidFill>
                <a:latin typeface="Arial Black"/>
              </a:rPr>
              <a:t>ВОСПИТАТЕЛЬНАЯ РЕЗУЛЬТАТИВНОСИТЬ КУРСА </a:t>
            </a:r>
            <a:br>
              <a:rPr sz="2800"/>
            </a:br>
            <a:r>
              <a:rPr b="0" lang="ru-RU" sz="2800" spc="-1" strike="noStrike">
                <a:solidFill>
                  <a:srgbClr val="820000"/>
                </a:solidFill>
                <a:latin typeface="Arial Black"/>
              </a:rPr>
              <a:t>(С ТОЧКИ ЗРЕНИЯ РОДИТЕЛЕЙ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5068800"/>
          </a:xfrm>
          <a:prstGeom prst="rect">
            <a:avLst/>
          </a:prstGeom>
          <a:solidFill>
            <a:srgbClr val="fcd5b5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82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820000"/>
                </a:solidFill>
                <a:latin typeface="Arial Black"/>
              </a:rPr>
              <a:t>Высказывания респондентов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82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20000"/>
                </a:solidFill>
                <a:latin typeface="Arial Black"/>
              </a:rPr>
              <a:t>Стал добрее, терпимее (Уважение появилось к людям, стал более терпимым, добрым, нравственным, независтливым, уважение к старшим появилось, появилась забота о других, внимательным стал, стал лучше к природе относиться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82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20000"/>
                </a:solidFill>
                <a:latin typeface="Arial Black"/>
              </a:rPr>
              <a:t>Уменьшилась агрессивность (Стал менее агрессивным, спокойным, уравновешенным, послушным, более дружелюбным, не грубит взрослым,  научился уступать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82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20000"/>
                </a:solidFill>
                <a:latin typeface="Arial Black"/>
              </a:rPr>
              <a:t>Стал больше задумываться (Проблемы стал обсуждать, размышлять, думать о своих поступках, стал взрослее, рассудительным, стал задавать вопросы, появилось свое мнение, стал разговаривать на серьезные темы, больше понимать, задавать нравственные вопросы, ребенок научился рассуждать, анализировать свои поступки, появилось понятие добра и зла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82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20000"/>
                </a:solidFill>
                <a:latin typeface="Arial Black"/>
              </a:rPr>
              <a:t>Стал воспитаннее (Стал вежливее, форма общения изменилась в лучшую сторону, поведение стало лучше, научился себя вести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82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20000"/>
                </a:solidFill>
                <a:latin typeface="Arial Black"/>
              </a:rPr>
              <a:t>Стал образованнее (Кругозор расширился, стал понимать различие в верах, появился интерес к учебе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82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20000"/>
                </a:solidFill>
                <a:latin typeface="Arial Black"/>
              </a:rPr>
              <a:t>Улучшилось отношение к близким (Изменилось отношение к семье, к родителям, стал больше тянуться к семье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82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20000"/>
                </a:solidFill>
                <a:latin typeface="Arial Black"/>
              </a:rPr>
              <a:t>Стал общительнее (Стал общительнее, более открытым, со сверстниками больше общаться стал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82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78920" y="188640"/>
            <a:ext cx="8713800" cy="1228680"/>
          </a:xfrm>
          <a:prstGeom prst="rect">
            <a:avLst/>
          </a:prstGeom>
          <a:solidFill>
            <a:srgbClr val="8eb4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ru-RU" sz="1600" spc="-1" strike="noStrike">
                <a:solidFill>
                  <a:srgbClr val="254061"/>
                </a:solidFill>
                <a:latin typeface="Arial Black"/>
              </a:rPr>
              <a:t>ЧИСЛО РОДИТЕЛЕЙ, СЧИТАЮЩИХ, ЧТО </a:t>
            </a:r>
            <a:br>
              <a:rPr sz="1600"/>
            </a:br>
            <a:r>
              <a:rPr b="1" lang="ru-RU" sz="1600" spc="-1" strike="noStrike">
                <a:solidFill>
                  <a:srgbClr val="254061"/>
                </a:solidFill>
                <a:latin typeface="Arial Black"/>
              </a:rPr>
              <a:t>ДЕТИ ВСЛЕДСТВИЕ ИЗУЧЕНИЯ СЛЕДУЮЩЕГО МОДУЛЯ СТАЛИ ДОБРЕЕ, ТЕРПИМЕЕ </a:t>
            </a:r>
            <a:br>
              <a:rPr sz="1600"/>
            </a:br>
            <a:r>
              <a:rPr b="1" i="1" lang="ru-RU" sz="1600" spc="-1" strike="noStrike">
                <a:solidFill>
                  <a:srgbClr val="254061"/>
                </a:solidFill>
                <a:latin typeface="Arial Black"/>
              </a:rPr>
              <a:t>(% от респондентов, чьи дети изучают соответствующий модуль)</a:t>
            </a:r>
            <a:br>
              <a:rPr sz="14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Объект 5" descr=""/>
          <p:cNvPicPr/>
          <p:nvPr/>
        </p:nvPicPr>
        <p:blipFill>
          <a:blip r:embed="rId1"/>
          <a:stretch/>
        </p:blipFill>
        <p:spPr>
          <a:xfrm>
            <a:off x="200160" y="1506600"/>
            <a:ext cx="8670960" cy="52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c3d69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a452a"/>
                </a:solidFill>
                <a:latin typeface="Arial Black"/>
              </a:rPr>
              <a:t>ВЕДЁТ ЛИ МОДУЛЬНЫЙ ХАРАКТЕР КУРСА ОРКСЭ К РОСТУ МЕЖРЕЛИГИОЗНОЙ И МЕЖНАЦИОНАЛЬНОЙ НЕТЕРПИМОСТИ В ШКОЛЬНОЙ СРЕДЕ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5068800"/>
          </a:xfrm>
          <a:prstGeom prst="rect">
            <a:avLst/>
          </a:prstGeom>
          <a:solidFill>
            <a:srgbClr val="d7e4bd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4f6228"/>
                </a:solidFill>
                <a:latin typeface="Arial Black"/>
              </a:rPr>
              <a:t>РОДИТЕЛИ: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buClr>
                <a:srgbClr val="4f6228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4f6228"/>
                </a:solidFill>
                <a:latin typeface="Arial Black"/>
              </a:rPr>
              <a:t>«Они и так были дружными, никаких изменений не произошло. Но самое главное, что не разделились, несмотря на то, что разные модули выбрали»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buClr>
                <a:srgbClr val="4f6228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4f6228"/>
                </a:solidFill>
                <a:latin typeface="Arial Black"/>
              </a:rPr>
              <a:t>«Никак это не влияет на их отношения. Они относятся к этому как просто к курсу. Идут они так же, как на иностранный, например, одни учат французский, другие немецкий и все вместе английский»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buClr>
                <a:srgbClr val="4f6228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4f6228"/>
                </a:solidFill>
                <a:latin typeface="Arial Black"/>
              </a:rPr>
              <a:t>«Мой сын сидит за партой с мусульманином. И он [мой сын] сказал ему, что их Бог – ненастоящий. Он пришел, мне сказал. Я с ним поговорил, что он неправ. Он пошел к тому и сказал: «Так и так. Я ошибся». То есть некоторые вопросы решаются на такой ранней стадии и так их соединяют. Не надо, чтобы люди решали эти моменты, когда им по 35 лет»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buClr>
                <a:srgbClr val="4f6228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4f6228"/>
                </a:solidFill>
                <a:latin typeface="Arial Black"/>
              </a:rPr>
              <a:t>«В принципе все модули курса учат доброму, вечному. Так что приводит только к лучшему. Какой-то объединительный момент был»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4f6228"/>
                </a:solidFill>
                <a:latin typeface="Arial Black"/>
              </a:rPr>
              <a:t>Более того, каждый пятый (20%) участник опроса сказал, что класс стал более дружным. Только 1,8% участников опроса сказали, что изучение курса «Основы религиозных культур и светской этики» негативным образом сказалось на сплоченности класса, в котором учится их ребенок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42160" cy="1228680"/>
          </a:xfrm>
          <a:prstGeom prst="rect">
            <a:avLst/>
          </a:prstGeom>
          <a:solidFill>
            <a:srgbClr val="8eb4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0253f"/>
                </a:solidFill>
                <a:latin typeface="Arial Black"/>
              </a:rPr>
              <a:t>ЧИСЛО РОДИТЕЛЕЙ, СЧИТАЮЩИХ, ЧТО ВСЛЕДСТВИЕ ИЗУЧЕНИЯ КОНКРЕТНОГО МОДУЛЯ</a:t>
            </a:r>
            <a:r>
              <a:rPr b="1" lang="en-US" sz="1600" spc="-1" strike="noStrike">
                <a:solidFill>
                  <a:srgbClr val="10253f"/>
                </a:solidFill>
                <a:latin typeface="Arial Black"/>
              </a:rPr>
              <a:t> </a:t>
            </a:r>
            <a:r>
              <a:rPr b="1" lang="ru-RU" sz="1600" spc="-1" strike="noStrike">
                <a:solidFill>
                  <a:srgbClr val="10253f"/>
                </a:solidFill>
                <a:latin typeface="Arial Black"/>
              </a:rPr>
              <a:t>ДЕТИ СТАЛИ ЛУЧШЕ ПОНИМАТЬ ПРЕДСТАВИТЕЛЕЙ ДРУГИХ РЕЛИГИЙ </a:t>
            </a:r>
            <a:br>
              <a:rPr sz="1600"/>
            </a:br>
            <a:r>
              <a:rPr b="1" i="1" lang="ru-RU" sz="1600" spc="-1" strike="noStrike">
                <a:solidFill>
                  <a:srgbClr val="10253f"/>
                </a:solidFill>
                <a:latin typeface="Arial Black"/>
              </a:rPr>
              <a:t>(% от респондентов, чьи дети изучают соответствующий модуль)</a:t>
            </a:r>
            <a:br>
              <a:rPr sz="14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Объект 7" descr=""/>
          <p:cNvPicPr/>
          <p:nvPr/>
        </p:nvPicPr>
        <p:blipFill>
          <a:blip r:embed="rId1"/>
          <a:stretch/>
        </p:blipFill>
        <p:spPr>
          <a:xfrm>
            <a:off x="200160" y="1549440"/>
            <a:ext cx="8743680" cy="51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8920" y="188640"/>
            <a:ext cx="8713800" cy="1143000"/>
          </a:xfrm>
          <a:prstGeom prst="rect">
            <a:avLst/>
          </a:prstGeom>
          <a:solidFill>
            <a:srgbClr val="e6b9b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ru-RU" sz="3600" spc="-1" strike="noStrike">
                <a:solidFill>
                  <a:srgbClr val="820000"/>
                </a:solidFill>
                <a:latin typeface="Arial Black"/>
              </a:rPr>
              <a:t>«ТИНЕЙДЖЕРСКАЯ РЕВОЛЮЦИЯ»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78920" y="1484280"/>
            <a:ext cx="8713800" cy="5113440"/>
          </a:xfrm>
          <a:prstGeom prst="rect">
            <a:avLst/>
          </a:prstGeom>
          <a:solidFill>
            <a:srgbClr val="e6b9b8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64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40000"/>
                </a:solidFill>
                <a:latin typeface="Arial Black"/>
              </a:rPr>
              <a:t>Изменение отношения к детям, подросткам и молодёжи в обществе. Детско-юношеский период жизни человека воспринимается членами общества в его самоценности и самозначимости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64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40000"/>
                </a:solidFill>
                <a:latin typeface="Arial Black"/>
              </a:rPr>
              <a:t>Развитие тинейджерского самосознания: осознание тинейджерами  себя субъектами права, нарастание стремления детей и подростков к свободе и независимости. Роль ювенальной юстици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64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40000"/>
                </a:solidFill>
                <a:latin typeface="Arial Black"/>
              </a:rPr>
              <a:t>Приоритет досуговых форм в жизни подрастающего поколения. Дети и подростки воспринимают свой досуг как зону ограниченного вмешательства взрослых. Форма социализации тинейджеров – молодёжная тусовка, «внутренняя эмиграция» – интернет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64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40000"/>
                </a:solidFill>
                <a:latin typeface="Arial Black"/>
              </a:rPr>
              <a:t>Преобладание среди детей носителей элементов экранно-клипового мышления существенно усиливает разрыв между поколениями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64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40000"/>
                </a:solidFill>
                <a:latin typeface="Arial Black"/>
              </a:rPr>
              <a:t>Смена межпоколенной вертикали на внутрипоколенную горизонталь как доминирующее направление социализации. Ослабление авторитета старших и их воспитательного потенциала по отношению к младшим, неспособность управлять многими процессами в детско-юношеской среде, проблемы морально-нравственного характера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64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40000"/>
                </a:solidFill>
                <a:latin typeface="Arial Black"/>
              </a:rPr>
              <a:t>Усиление дезинтеграции подрастающего поколения в социуме, противопоставление его интересов интересам других слоёв общества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78920" y="189000"/>
            <a:ext cx="8713800" cy="1295280"/>
          </a:xfrm>
          <a:prstGeom prst="rect">
            <a:avLst/>
          </a:prstGeom>
          <a:solidFill>
            <a:srgbClr val="ccc1da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3152"/>
                </a:solidFill>
                <a:latin typeface="Arial Black"/>
              </a:rPr>
              <a:t>ОРКСЭ: ОБЪЕДИНЯЕТ ИЛИ РАЗЪЕДИНЯЕТ? </a:t>
            </a:r>
            <a:br>
              <a:rPr sz="2800"/>
            </a:br>
            <a:r>
              <a:rPr b="0" lang="ru-RU" sz="2800" spc="-1" strike="noStrike">
                <a:solidFill>
                  <a:srgbClr val="403152"/>
                </a:solidFill>
                <a:latin typeface="Arial Black"/>
              </a:rPr>
              <a:t>(по данным Карачаево-Черкесии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178920" y="1600200"/>
            <a:ext cx="8713800" cy="5068800"/>
          </a:xfrm>
          <a:prstGeom prst="rect">
            <a:avLst/>
          </a:prstGeom>
          <a:solidFill>
            <a:srgbClr val="ccc1da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254061"/>
                </a:solidFill>
                <a:latin typeface="Arial Black"/>
              </a:rPr>
              <a:t>Респонденты, проживающие в Карачаево-Черкессии, говорили о том, что разделение по модулям, связанное с национальностью детей в школах республики существует давно и не является новым в школьной жизни. 41% участников опроса сказали, что вследствие изучения Курса дети стали лучше понимать представителей других религий.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254061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254061"/>
                </a:solidFill>
                <a:latin typeface="Arial Black"/>
              </a:rPr>
              <a:t>«У нас и так есть деление по национальностям. Дети изучают национальные языки. Черкесы – черкесский, карачаевцы – карачаевский, русские – на ИЗО. И так делились. Так что ничего не изменилось»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254061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254061"/>
                </a:solidFill>
                <a:latin typeface="Arial Black"/>
              </a:rPr>
              <a:t>«Мой ребенок сказал, что ему интересно. Им обещали экскурсии и в православные церкви, и в католический костел и в исламский. И он с удовольствием посмотрит, как там устроено внутри, какие традиции…»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254061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254061"/>
                </a:solidFill>
                <a:latin typeface="Arial Black"/>
              </a:rPr>
              <a:t>«Конечно, они там все религии сразу изучают и видят, что все религии одинаково учат добру, справедливости»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254061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254061"/>
                </a:solidFill>
                <a:latin typeface="Arial Black"/>
              </a:rPr>
              <a:t>«Иисуса мы тоже пророком считаем, и Моисея тоже, и других. Мухаммед последним пророком был, а если бы он не пришел, то мы тоже христианами были бы»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254061"/>
                </a:solidFill>
                <a:latin typeface="Arial Black"/>
              </a:rPr>
              <a:t>Большинство школьников, изучающих светскую этику, не стали лучше понимать представителей других религий. Однако, по словам родителей, каждый третий школьник, изучающий светскую этику,  все же стал лучше понимать представителей других религий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254061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254061"/>
                </a:solidFill>
                <a:latin typeface="Arial Black"/>
              </a:rPr>
              <a:t>«Мой ребенок светскую этику изучает. Им про разные религии не рассказывают. Но они друг другу на переменах рассказывают, кто что узнал…»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29528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ru-RU" sz="1600" spc="-1" strike="noStrike">
                <a:solidFill>
                  <a:srgbClr val="4a452a"/>
                </a:solidFill>
                <a:latin typeface="Arial Black"/>
              </a:rPr>
              <a:t>ЧИСЛО РОДИТЕЛЕЙ, СЧИТАЮЩИХ, ЧТО ВСЛЕДСТВИЕ ИЗУЧЕНИЯ ОПРЕДЕЛЁННОГО МОДУЛЯ ОРКСЭ</a:t>
            </a:r>
            <a:br>
              <a:rPr sz="1600"/>
            </a:br>
            <a:r>
              <a:rPr b="1" lang="ru-RU" sz="1600" spc="-1" strike="noStrike">
                <a:solidFill>
                  <a:srgbClr val="4a452a"/>
                </a:solidFill>
                <a:latin typeface="Arial Black"/>
              </a:rPr>
              <a:t>ИХ РЕБЕНОК СТАЛ БОЛЬШЕ ИНТЕРЕСОВАТЬСЯ РЕЛИГИЕЙ </a:t>
            </a:r>
            <a:br>
              <a:rPr sz="1600"/>
            </a:br>
            <a:r>
              <a:rPr b="1" i="1" lang="ru-RU" sz="1600" spc="-1" strike="noStrike">
                <a:solidFill>
                  <a:srgbClr val="4a452a"/>
                </a:solidFill>
                <a:latin typeface="Arial Black"/>
              </a:rPr>
              <a:t>(% от респондентов, чьи дети изучают соответствующий модуль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Объект 8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331120" cy="46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785440" cy="122868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dbeef4"/>
                </a:solidFill>
                <a:latin typeface="Arial Black"/>
              </a:rPr>
              <a:t>МОДУЛЬНЫЙ ПРИНЦИП ИЛИ ЕДИНЫЙ КУРС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79280" y="1600200"/>
            <a:ext cx="8785440" cy="506880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76092"/>
                </a:solidFill>
                <a:latin typeface="Arial Black"/>
              </a:rPr>
              <a:t>Большинство (57%) участников опроса высказались за то, чтобы у родителей была возможность выбирать один из модулей Курса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7609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76092"/>
                </a:solidFill>
                <a:latin typeface="Arial Black"/>
              </a:rPr>
              <a:t>«У нас в классе дети разных национальностей есть. Зачем же всех под одну гребенку причесывать? Пусть каждый свою религию изучает»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7609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76092"/>
                </a:solidFill>
                <a:latin typeface="Arial Black"/>
              </a:rPr>
              <a:t>«Лучше разные религии изучать. Должны они [дети] разные знать, чтобы развитие боле полное было»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7609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76092"/>
                </a:solidFill>
                <a:latin typeface="Arial Black"/>
              </a:rPr>
              <a:t>«Лучше, чтобы можно было выбрать. Я не понимаю, зачем моему ребенку буддизм или ислам»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76092"/>
                </a:solidFill>
                <a:latin typeface="Arial Black"/>
              </a:rPr>
              <a:t>38% респондентов высказались за то, чтобы все школьники изучали единый курс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7609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76092"/>
                </a:solidFill>
                <a:latin typeface="Arial Black"/>
              </a:rPr>
              <a:t>«Все вместе должны один предмет изучать. Живем вместе, и учиться должны вместе»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76092"/>
                </a:solidFill>
                <a:latin typeface="Arial Black"/>
              </a:rPr>
              <a:t>Данный показатель существенным образом зависит от религиозной принадлежности респондентов. Большинство православных (60%) и неверующих (55%) участников опроса высказывались за модульное построение Курса. Буддисты и мусульмане чаще (по 60%) высказывались за изучение единого курс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09600"/>
          </a:xfrm>
          <a:prstGeom prst="rect">
            <a:avLst/>
          </a:prstGeom>
          <a:solidFill>
            <a:srgbClr val="b7dee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r>
              <a:rPr b="1" lang="ru-RU" sz="1800" spc="-1" strike="noStrike">
                <a:solidFill>
                  <a:srgbClr val="215968"/>
                </a:solidFill>
                <a:latin typeface="Arial Black"/>
              </a:rPr>
              <a:t>ЧИСЛО РОДИТЕЛЕЙ, ПРОЧИТАВШИХ УЧЕБНИК, ПО КОТОРОМУ УЧИТСЯ ИХ РЕБЕНОК </a:t>
            </a:r>
            <a:br>
              <a:rPr sz="1800"/>
            </a:br>
            <a:r>
              <a:rPr b="1" i="1" lang="ru-RU" sz="1800" spc="-1" strike="noStrike">
                <a:solidFill>
                  <a:srgbClr val="215968"/>
                </a:solidFill>
                <a:latin typeface="Arial Black"/>
              </a:rPr>
              <a:t>(% от респондентов, чьи дети изучают соответствующий модуль)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Объект 16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331120" cy="46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c00000"/>
                </a:solidFill>
                <a:latin typeface="Arial Black"/>
              </a:rPr>
              <a:t>ЧТО БЫ ВЫ ХОТЕЛИ ИЗМЕНИТЬ В ПРЕПОДАВАНИИ ДАННОГО КУРСА? </a:t>
            </a:r>
            <a:br>
              <a:rPr sz="2400"/>
            </a:br>
            <a:r>
              <a:rPr b="1" i="1" lang="ru-RU" sz="2400" spc="-1" strike="noStrike">
                <a:solidFill>
                  <a:srgbClr val="c00000"/>
                </a:solidFill>
                <a:latin typeface="Arial Black"/>
              </a:rPr>
              <a:t>(% от всех опрошенных)</a:t>
            </a:r>
            <a:br>
              <a:rPr sz="40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Объект 18" descr=""/>
          <p:cNvPicPr/>
          <p:nvPr/>
        </p:nvPicPr>
        <p:blipFill>
          <a:blip r:embed="rId2"/>
          <a:stretch/>
        </p:blipFill>
        <p:spPr>
          <a:xfrm>
            <a:off x="406440" y="1549440"/>
            <a:ext cx="8331120" cy="46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Прямоугольник 8"/>
          <p:cNvGrpSpPr/>
          <p:nvPr/>
        </p:nvGrpSpPr>
        <p:grpSpPr>
          <a:xfrm>
            <a:off x="195120" y="133200"/>
            <a:ext cx="8747280" cy="6585120"/>
            <a:chOff x="195120" y="133200"/>
            <a:chExt cx="8747280" cy="6585120"/>
          </a:xfrm>
        </p:grpSpPr>
        <p:pic>
          <p:nvPicPr>
            <p:cNvPr id="92" name="Прямоугольник 8" descr=""/>
            <p:cNvPicPr/>
            <p:nvPr/>
          </p:nvPicPr>
          <p:blipFill>
            <a:blip r:embed="rId1"/>
            <a:stretch/>
          </p:blipFill>
          <p:spPr>
            <a:xfrm>
              <a:off x="195120" y="133200"/>
              <a:ext cx="8747280" cy="658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250920" y="189000"/>
              <a:ext cx="8642160" cy="648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25600"/>
          </a:xfrm>
          <a:prstGeom prst="rect">
            <a:avLst/>
          </a:prstGeom>
          <a:solidFill>
            <a:srgbClr val="e46c0a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deada"/>
                </a:solidFill>
                <a:latin typeface="Arial Black"/>
              </a:rPr>
              <a:t>«ЛУЧШЕ ЗАЖЕЧЬ ОДНУ СВЕЧУ, ЧЕМ СТО РАЗ ПРОКЛИНАТЬ ТЕМНОТУ» </a:t>
            </a:r>
            <a:br>
              <a:rPr sz="2400"/>
            </a:br>
            <a:r>
              <a:rPr b="0" lang="ru-RU" sz="2400" spc="-1" strike="noStrike">
                <a:solidFill>
                  <a:srgbClr val="fdeada"/>
                </a:solidFill>
                <a:latin typeface="Arial Black"/>
              </a:rPr>
              <a:t>(ПОСЛОВИЦА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2" descr="Картинка 1 из 181842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547640" y="1481040"/>
            <a:ext cx="6048720" cy="50482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4" descr="P1060479"/>
          <p:cNvPicPr/>
          <p:nvPr/>
        </p:nvPicPr>
        <p:blipFill>
          <a:blip r:embed="rId4"/>
          <a:stretch/>
        </p:blipFill>
        <p:spPr>
          <a:xfrm>
            <a:off x="420840" y="1420920"/>
            <a:ext cx="3292200" cy="27972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3" descr="F:\фото ОПК\P1060767.JPG"/>
          <p:cNvPicPr/>
          <p:nvPr/>
        </p:nvPicPr>
        <p:blipFill>
          <a:blip r:embed="rId5"/>
          <a:stretch/>
        </p:blipFill>
        <p:spPr>
          <a:xfrm>
            <a:off x="5864400" y="1695600"/>
            <a:ext cx="2743200" cy="23889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" descr="P1060379"/>
          <p:cNvPicPr/>
          <p:nvPr/>
        </p:nvPicPr>
        <p:blipFill>
          <a:blip r:embed="rId6"/>
          <a:stretch/>
        </p:blipFill>
        <p:spPr>
          <a:xfrm>
            <a:off x="463680" y="4071960"/>
            <a:ext cx="3224160" cy="23162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2" descr="C:\Documents and Settings\1\Рабочий стол\фото 3 А\DSCI0255.JPG"/>
          <p:cNvPicPr/>
          <p:nvPr/>
        </p:nvPicPr>
        <p:blipFill>
          <a:blip r:embed="rId7"/>
          <a:stretch/>
        </p:blipFill>
        <p:spPr>
          <a:xfrm>
            <a:off x="6004080" y="4071960"/>
            <a:ext cx="2749320" cy="22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8920" y="274320"/>
            <a:ext cx="8713800" cy="1143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c0000"/>
                </a:solidFill>
                <a:latin typeface="Arial Black"/>
              </a:rPr>
              <a:t>ИЗ РЕКОМЕНДАЦИЙ МОН РФ ПО РАБОТЕ С РОДИТЕЛЯМ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178920" y="1600200"/>
            <a:ext cx="8713800" cy="5068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20000"/>
                </a:solidFill>
                <a:latin typeface="Arial Black"/>
              </a:rPr>
              <a:t>Работа по информированию родителей (законных представителей) учащихся 4-х классов о введении учебного курса велась (ведется) через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82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20000"/>
                </a:solidFill>
                <a:latin typeface="Arial Black"/>
              </a:rPr>
              <a:t>родительские собрания разного уровня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82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20000"/>
                </a:solidFill>
                <a:latin typeface="Arial Black"/>
              </a:rPr>
              <a:t>родительские лектории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82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20000"/>
                </a:solidFill>
                <a:latin typeface="Arial Black"/>
              </a:rPr>
              <a:t>конференции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82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20000"/>
                </a:solidFill>
                <a:latin typeface="Arial Black"/>
              </a:rPr>
              <a:t>«круглые столы» с привлечением представителей разных религиозных организаций, общественных деятелей и руководителей органов управления образованием разных уровней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82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20000"/>
                </a:solidFill>
                <a:latin typeface="Arial Black"/>
              </a:rPr>
              <a:t>через рассылку информационных писем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82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20000"/>
                </a:solidFill>
                <a:latin typeface="Arial Black"/>
              </a:rPr>
              <a:t>освещение вопроса введения курса в СМИ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82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20000"/>
                </a:solidFill>
                <a:latin typeface="Arial Black"/>
              </a:rPr>
              <a:t>приглашение родителей на открытые мероприятия, уроки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82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20000"/>
                </a:solidFill>
                <a:latin typeface="Arial Black"/>
              </a:rPr>
              <a:t>через сеть Интернет: на сайтах общеобразовательных учреждений, органов управления образованием в рамках общественного обсуждения на форумах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82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82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8642160" cy="1143000"/>
          </a:xfrm>
          <a:prstGeom prst="rect">
            <a:avLst/>
          </a:prstGeom>
          <a:solidFill>
            <a:srgbClr val="fac09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Arial Black"/>
              </a:rPr>
              <a:t>ОТНОШЕНИЕ К КУРСУ ОРКСЭ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250920" y="1600200"/>
            <a:ext cx="8642160" cy="5068800"/>
          </a:xfrm>
          <a:prstGeom prst="rect">
            <a:avLst/>
          </a:prstGeom>
          <a:solidFill>
            <a:srgbClr val="fcd5b5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32523"/>
                </a:solidFill>
                <a:latin typeface="Arial Black"/>
              </a:rPr>
              <a:t>РОДИТЕЛ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3252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32523"/>
                </a:solidFill>
                <a:latin typeface="Arial Black"/>
              </a:rPr>
              <a:t>87% - оценивают введение курса положительно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3252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32523"/>
                </a:solidFill>
                <a:latin typeface="Arial Black"/>
              </a:rPr>
              <a:t>59% - курс способствует расширению кругозора школьников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3252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32523"/>
                </a:solidFill>
                <a:latin typeface="Arial Black"/>
              </a:rPr>
              <a:t>46% - курс формирует уважительное отношение к традиционным российским религиям и религиозным организациям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3252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32523"/>
                </a:solidFill>
                <a:latin typeface="Arial Black"/>
              </a:rPr>
              <a:t>44% - возлагают надежды на духовное и культурное развитие своих детей средствами нового курса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3252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32523"/>
                </a:solidFill>
                <a:latin typeface="Arial Black"/>
              </a:rPr>
              <a:t>33% - надеются на  улучшение нравственности дете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32523"/>
                </a:solidFill>
                <a:latin typeface="Arial Black"/>
              </a:rPr>
              <a:t>Однако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3252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32523"/>
                </a:solidFill>
                <a:latin typeface="Arial Black"/>
              </a:rPr>
              <a:t> </a:t>
            </a:r>
            <a:r>
              <a:rPr b="0" lang="ru-RU" sz="1800" spc="-1" strike="noStrike">
                <a:solidFill>
                  <a:srgbClr val="632523"/>
                </a:solidFill>
                <a:latin typeface="Arial Black"/>
              </a:rPr>
              <a:t>18% -  остаются опасения, что возможно принудительное навязывание религии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3252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32523"/>
                </a:solidFill>
                <a:latin typeface="Arial Black"/>
              </a:rPr>
              <a:t>37% - видят в новом курсе дополнительную нагрузку на школьников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3252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32523"/>
                </a:solidFill>
                <a:latin typeface="Arial Black"/>
              </a:rPr>
              <a:t>3% - опасаются возможного формирования замкнутых групп по этническому и религиозному признаку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ac09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Arial Black"/>
              </a:rPr>
              <a:t>МНЕНИЯ РОДИТЕЛЕЙ О КУРС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5068800"/>
          </a:xfrm>
          <a:prstGeom prst="rect">
            <a:avLst/>
          </a:prstGeom>
          <a:solidFill>
            <a:srgbClr val="fcd5b5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82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820000"/>
                </a:solidFill>
                <a:latin typeface="Arial Black"/>
              </a:rPr>
              <a:t>«Я думаю, что хорошо возрождать в наших детях какую-то духовность, которые многие в нашем обществе уже лишены…»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82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820000"/>
                </a:solidFill>
                <a:latin typeface="Arial Black"/>
              </a:rPr>
              <a:t>« …мы, родители не всегда знаем как воспитать в детях то, что нарушать духовные законы нельзя. Я рада, что введен этот курс!»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82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820000"/>
                </a:solidFill>
                <a:latin typeface="Arial Black"/>
              </a:rPr>
              <a:t>« Я очень довольна, что наши дети будут изучать культуру народов, их религию. Это расширит их кругозор, они будут знать больше, да и читать будут больше. Такое развитие необходимо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82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820000"/>
                </a:solidFill>
                <a:latin typeface="Arial Black"/>
              </a:rPr>
              <a:t>«Чем какой-то чепухой заниматься, лучше бы увеличили бы часы на математику и русский язык»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82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820000"/>
                </a:solidFill>
                <a:latin typeface="Arial Black"/>
              </a:rPr>
              <a:t>«Так он не очень любит уроки делать, а по этому предмету – с удовольствием»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82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820000"/>
                </a:solidFill>
                <a:latin typeface="Arial Black"/>
              </a:rPr>
              <a:t>«Она после этого урока домой приходит… Глазки у нее горят, и она мне рассказывает, что они учили, что нового она узнала»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5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ac09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Arial Black"/>
              </a:rPr>
              <a:t>МНЕНИЯ РОДИТЕЛЕЙ О КУРС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997520"/>
          </a:xfrm>
          <a:prstGeom prst="rect">
            <a:avLst/>
          </a:prstGeom>
          <a:solidFill>
            <a:srgbClr val="fcd5b5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82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820000"/>
                </a:solidFill>
                <a:latin typeface="Arial Black"/>
              </a:rPr>
              <a:t>«Это надо с учетом того, что дети у нас такие озлобленные, родители толком ими не занимаются… И про религии, и про этику надо рассказывать»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82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820000"/>
                </a:solidFill>
                <a:latin typeface="Arial Black"/>
              </a:rPr>
              <a:t>«Мне понравилось, что мой ребенок стал понимать картины, посвященные библейским сюжетам. Например, «Тайная вечеря». Он стал говорить, о чем написана эта картина, кто автор, что она означает»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82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820000"/>
                </a:solidFill>
                <a:latin typeface="Arial Black"/>
              </a:rPr>
              <a:t>«Религию надо изучать, надо все-таки знать страну, где мы живем»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82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820000"/>
                </a:solidFill>
                <a:latin typeface="Arial Black"/>
              </a:rPr>
              <a:t>«К изучению религиозных культур отношусь положительно, как к полезной общеобразовательной информации»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82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820000"/>
                </a:solidFill>
                <a:latin typeface="Arial Black"/>
              </a:rPr>
              <a:t>«Ребенку нравится этот предмет, он заинтересован. Пусть преподают»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785440" cy="1143000"/>
          </a:xfrm>
          <a:prstGeom prst="rect">
            <a:avLst/>
          </a:prstGeom>
          <a:solidFill>
            <a:srgbClr val="fac09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20000"/>
                </a:solidFill>
                <a:latin typeface="Arial Black"/>
              </a:rPr>
              <a:t>МНЕНИЯ ВЕРУЮЩИХ РОДИТЕЛЕ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Box 2"/>
          <p:cNvSpPr/>
          <p:nvPr/>
        </p:nvSpPr>
        <p:spPr>
          <a:xfrm>
            <a:off x="179280" y="1557360"/>
            <a:ext cx="8785440" cy="3751560"/>
          </a:xfrm>
          <a:prstGeom prst="rect">
            <a:avLst/>
          </a:prstGeom>
          <a:solidFill>
            <a:srgbClr val="fcd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2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20000"/>
                </a:solidFill>
                <a:latin typeface="Arial Black"/>
              </a:rPr>
              <a:t>«Мои дети в воскресной школе занимаются. Там, понятно, им священник о православии рассказывает. А просто учитель еще непонятно, как расскажет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2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20000"/>
                </a:solidFill>
                <a:latin typeface="Arial Black"/>
              </a:rPr>
              <a:t>«Я так думаю, что это внутрисемейное дело. Я не думаю, что религиозным образованием надо заниматься в школе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2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20000"/>
                </a:solidFill>
                <a:latin typeface="Arial Black"/>
              </a:rPr>
              <a:t>«Мой сын в медресе занимался на летних каникулах, исламом занимался, читать научился по-арабски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2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20000"/>
                </a:solidFill>
                <a:latin typeface="Arial Black"/>
              </a:rPr>
              <a:t>«У них и так сейчас программа очень насыщенная. И еще догружать их не надо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ac09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20000"/>
                </a:solidFill>
                <a:latin typeface="Arial Black"/>
              </a:rPr>
              <a:t>ОТНОШЕНИЕ К КУРСУ РОДИТЕЛЕЙ РАЗНЫХ КОНФЕСС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Объект 1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331120" cy="46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ac09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20000"/>
                </a:solidFill>
                <a:latin typeface="Arial Black"/>
              </a:rPr>
              <a:t>ОТНОШЕНИЕ К КУРСУ ОРКСЭ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997520"/>
          </a:xfrm>
          <a:prstGeom prst="rect">
            <a:avLst/>
          </a:prstGeom>
          <a:solidFill>
            <a:srgbClr val="fcd5b5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32523"/>
                </a:solidFill>
                <a:latin typeface="Arial Black"/>
              </a:rPr>
              <a:t>Учащиес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63252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632523"/>
                </a:solidFill>
                <a:latin typeface="Arial Black"/>
              </a:rPr>
              <a:t>77% </a:t>
            </a:r>
            <a:r>
              <a:rPr b="0" lang="en-US" sz="2200" spc="-1" strike="noStrike">
                <a:solidFill>
                  <a:srgbClr val="632523"/>
                </a:solidFill>
                <a:latin typeface="Arial Black"/>
              </a:rPr>
              <a:t>- </a:t>
            </a:r>
            <a:r>
              <a:rPr b="0" lang="ru-RU" sz="2200" spc="-1" strike="noStrike">
                <a:solidFill>
                  <a:srgbClr val="632523"/>
                </a:solidFill>
                <a:latin typeface="Arial Black"/>
              </a:rPr>
              <a:t>новый курс понятен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63252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632523"/>
                </a:solidFill>
                <a:latin typeface="Arial Black"/>
              </a:rPr>
              <a:t>84% - учебный курс интересен;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63252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632523"/>
                </a:solidFill>
                <a:latin typeface="Arial Black"/>
              </a:rPr>
              <a:t>79% - обсуждают дома с родителями изученные в школе темы, получают помощь в выполнении домашних заданий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63252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632523"/>
                </a:solidFill>
                <a:latin typeface="Arial Black"/>
              </a:rPr>
              <a:t>74,8% - хотят продолжить в 5 классе изучение выбранного модуля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632523"/>
                </a:solidFill>
                <a:latin typeface="Arial Black"/>
              </a:rPr>
              <a:t>Однако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63252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632523"/>
                </a:solidFill>
                <a:latin typeface="Arial Black"/>
              </a:rPr>
              <a:t>20% - испытывали затруднения в понимании текстов учебников и новых понятий;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63252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632523"/>
                </a:solidFill>
                <a:latin typeface="Arial Black"/>
              </a:rPr>
              <a:t>6% - на уроках было скучно;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63252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632523"/>
                </a:solidFill>
                <a:latin typeface="Arial Black"/>
              </a:rPr>
              <a:t>13% - курс был неинтересен;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63252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632523"/>
                </a:solidFill>
                <a:latin typeface="Arial Black"/>
              </a:rPr>
              <a:t>9,6% -  высказали пожелание в 5 классе поменять изучаемый модуль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VM-3</cp:lastModifiedBy>
  <dcterms:modified xsi:type="dcterms:W3CDTF">2013-04-02T04:45:30Z</dcterms:modified>
  <cp:revision>39</cp:revision>
  <dc:subject/>
  <dc:title>РОДИТЕЛИ И ДЕТИ – ОБ ОРКСЭ</dc:title>
</cp:coreProperties>
</file>